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ct" ContentType="image/x-pict"/>
  <Override PartName="/ppt/media/image2.png" ContentType="image/png"/>
  <Override PartName="/ppt/media/image25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6.png" ContentType="image/png"/>
  <Override PartName="/ppt/media/image23.pct" ContentType="image/x-pict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FD8-EA3F-4F0E-94E3-39E1B7C2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176-D5B1-48DE-B8FC-AB5C156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B5B-F4B5-497E-A484-908770F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5FD-C7C8-4CA1-9188-9474AE1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3C4-2485-4130-A22D-46B13209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831-BFD3-452F-8E29-93869122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962-C422-4BDB-80F6-AAAC666D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214-CB0E-4F61-B03E-F0521C0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EB4-8D14-4BD7-87DE-00DB8D5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32C-FEED-4F20-96A8-25EA8712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88B-72E6-40C2-A8A0-0A2B78CF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009-E122-43A5-A23E-1010BFE0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2920" y="1447920"/>
            <a:ext cx="8997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512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3A2-F6E4-4F67-8CC9-0E04D883F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32440"/>
            <a:ext cx="1003320" cy="925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658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uperfluidity of a BEC in a Periodic Pot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2971440"/>
            <a:ext cx="9658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Biao Wu </a:t>
            </a: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(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吴飙</a:t>
            </a: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Institute of Physic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Chinese Academy of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49600" y="6019920"/>
            <a:ext cx="56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cember 14th, 2007, H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74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xperimental observation of nonlinear LZ tunn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59800" y="4572000"/>
            <a:ext cx="1155600" cy="825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77800" y="1600200"/>
            <a:ext cx="8585280" cy="1168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3505320"/>
            <a:ext cx="52833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C Bloch b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7800" y="1506600"/>
            <a:ext cx="8667720" cy="1272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879720" y="3733920"/>
            <a:ext cx="4870440" cy="2597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42320" y="39625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llowta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7800" y="5181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ce o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01920" y="5181120"/>
            <a:ext cx="825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01920" y="4343400"/>
            <a:ext cx="2559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82680" y="380520"/>
            <a:ext cx="7493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BEC Bloch b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7680" y="1676520"/>
            <a:ext cx="5200560" cy="3294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48240" y="1752480"/>
            <a:ext cx="4230720" cy="30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678640" y="5276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92640" y="5334120"/>
            <a:ext cx="412308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chholm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PRA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003)0536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2320" y="5334120"/>
            <a:ext cx="317700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u and Niu NJ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003)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n field bands vs many-body quantum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68440" y="2144880"/>
          <a:ext cx="37335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2144880"/>
                    <a:ext cx="37335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025960" y="2144880"/>
          <a:ext cx="3733920" cy="37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2144880"/>
                    <a:ext cx="3733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68440" y="2144880"/>
          <a:ext cx="37335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8440" y="2144880"/>
                    <a:ext cx="37335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25960" y="2144880"/>
          <a:ext cx="3733920" cy="37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5960" y="2144880"/>
                    <a:ext cx="37339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069360" y="6100920"/>
            <a:ext cx="36403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 and Liu, P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6)0204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 in strong optic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06560" y="1600200"/>
            <a:ext cx="36324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5480" y="2577960"/>
            <a:ext cx="7868880" cy="3264120"/>
            <a:chOff x="825480" y="2577960"/>
            <a:chExt cx="7868880" cy="326412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825480" y="2577960"/>
              <a:ext cx="78688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2806200" y="3397320"/>
              <a:ext cx="4140360" cy="244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743040" y="2311560"/>
            <a:ext cx="7868880" cy="3530520"/>
            <a:chOff x="743040" y="2311560"/>
            <a:chExt cx="7868880" cy="353052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743040" y="2311560"/>
              <a:ext cx="7868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2976480" y="3453120"/>
              <a:ext cx="4044600" cy="238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ogoliubov spectru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95640" y="1579680"/>
            <a:ext cx="4044600" cy="2388960"/>
            <a:chOff x="3095640" y="1579680"/>
            <a:chExt cx="4044600" cy="23889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095640" y="1579680"/>
              <a:ext cx="40446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620320" y="3598920"/>
              <a:ext cx="1648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38680" y="3751200"/>
                <a:ext cx="441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708120" y="4368960"/>
            <a:ext cx="7353360" cy="2210400"/>
            <a:chOff x="708120" y="4368960"/>
            <a:chExt cx="7353360" cy="2210400"/>
          </a:xfrm>
        </p:grpSpPr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708120" y="4925880"/>
                  <a:ext cx="11620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sub>
                      </m:sSub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"/>
            <p:cNvSpPr/>
            <p:nvPr/>
          </p:nvSpPr>
          <p:spPr>
            <a:xfrm>
              <a:off x="2120760" y="4702320"/>
              <a:ext cx="397080" cy="1645920"/>
            </a:xfrm>
            <a:custGeom>
              <a:avLst/>
              <a:gdLst>
                <a:gd name="textAreaLeft" fmla="*/ 253800 w 397080"/>
                <a:gd name="textAreaRight" fmla="*/ 397440 w 397080"/>
                <a:gd name="textAreaTop" fmla="*/ 42840 h 1645920"/>
                <a:gd name="textAreaBottom" fmla="*/ 1603080 h 16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97120" y="4368960"/>
              <a:ext cx="401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l, positive:     super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8920" y="5068800"/>
              <a:ext cx="536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al, negative:  dissipative flow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(Landau instabilit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56520" y="6119640"/>
              <a:ext cx="50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lex: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ynamical ins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bility ph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48240" y="1371600"/>
            <a:ext cx="4308480" cy="5029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49120" y="3124080"/>
            <a:ext cx="34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k shaded are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ynamical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5600" y="441972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ded area (dark or light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ndau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0120" y="1676520"/>
            <a:ext cx="43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mentum of exc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5440" y="243828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k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Bloch wavenumber or quasi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6400800"/>
            <a:ext cx="4457520" cy="398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Wu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and Niu, PRA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, 061603(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erimental observation of dynamical instability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5480" y="3841920"/>
            <a:ext cx="5035680" cy="21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60240" y="4303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10640" y="3841920"/>
            <a:ext cx="3134520" cy="1815840"/>
            <a:chOff x="6110640" y="3841920"/>
            <a:chExt cx="3134520" cy="181584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6191280" y="3841920"/>
              <a:ext cx="305388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110640" y="528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000" y="5289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31120" y="528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193080" y="57913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theoretic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1631880"/>
            <a:ext cx="9669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erimental observation of dynamical instability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669600" cy="1905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12920" y="3048120"/>
            <a:ext cx="4705200" cy="3184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099200" y="2209680"/>
            <a:ext cx="743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6275520" y="4267080"/>
            <a:ext cx="3134880" cy="1816200"/>
            <a:chOff x="6275520" y="4267080"/>
            <a:chExt cx="3134880" cy="1816200"/>
          </a:xfrm>
        </p:grpSpPr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6356160" y="4267080"/>
              <a:ext cx="305424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275520" y="571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70880" y="5715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96360" y="571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91280" y="617220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theoretic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different ways of probing superflu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7920" y="154944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he lat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2880" y="396252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 Move an obstacle inside the super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98640" y="4648320"/>
            <a:ext cx="5283360" cy="1447200"/>
            <a:chOff x="1898640" y="4648320"/>
            <a:chExt cx="5283360" cy="144720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898640" y="4704120"/>
              <a:ext cx="5283360" cy="13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726080" y="4985640"/>
              <a:ext cx="297720" cy="224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23800" y="5098320"/>
              <a:ext cx="81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50600" y="46483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816200" y="4800600"/>
            <a:ext cx="163440" cy="816120"/>
          </a:xfrm>
          <a:custGeom>
            <a:avLst/>
            <a:gdLst>
              <a:gd name="textAreaLeft" fmla="*/ 104400 w 163440"/>
              <a:gd name="textAreaRight" fmla="*/ 163800 w 163440"/>
              <a:gd name="textAreaTop" fmla="*/ 21240 h 816120"/>
              <a:gd name="textAreaBottom" fmla="*/ 794880 h 8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816200" y="2362320"/>
            <a:ext cx="5860440" cy="1371600"/>
            <a:chOff x="1816200" y="2362320"/>
            <a:chExt cx="5860440" cy="137160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1816200" y="2362320"/>
              <a:ext cx="52675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859800" y="3360960"/>
              <a:ext cx="81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3080" y="28195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705200" y="6400800"/>
            <a:ext cx="478800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u and Shi, cond-mat/06070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304920"/>
            <a:ext cx="77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2640" y="2133720"/>
            <a:ext cx="65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llabor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ian Niu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牛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ie    Liu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nren Shi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施均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228240"/>
            <a:ext cx="908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ng obst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1640" y="1828800"/>
            <a:ext cx="4245120" cy="625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600" y="1600200"/>
            <a:ext cx="953640" cy="685800"/>
            <a:chOff x="5943600" y="1600200"/>
            <a:chExt cx="953640" cy="685800"/>
          </a:xfrm>
        </p:grpSpPr>
        <p:sp>
          <p:nvSpPr>
            <p:cNvPr id="261" name=""/>
            <p:cNvSpPr/>
            <p:nvPr/>
          </p:nvSpPr>
          <p:spPr>
            <a:xfrm>
              <a:off x="5943600" y="2089440"/>
              <a:ext cx="214560" cy="196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58160" y="2194200"/>
              <a:ext cx="73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5160" y="16002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403280" y="2506680"/>
            <a:ext cx="7099200" cy="312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764320" y="50292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Umklap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51200" y="3211560"/>
                <a:ext cx="385128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  <m:e>
                        <m:sSub>
                          <m:e>
                            <m: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h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3055320" y="5654520"/>
            <a:ext cx="41461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ero critical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16200" y="5807160"/>
            <a:ext cx="907920" cy="304560"/>
          </a:xfrm>
          <a:prstGeom prst="rightArrow">
            <a:avLst>
              <a:gd name="adj1" fmla="val 50000"/>
              <a:gd name="adj2" fmla="val 74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286760" y="4419360"/>
            <a:ext cx="469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0480" y="32446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of ener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1560" y="393048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conser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4160" y="304920"/>
            <a:ext cx="6799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renkov radiation in a periodic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2920" y="16765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y, Yeh, and Kaprielian, Phys. Rev. 140 (1965) B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nzburg and Tsytovich, Phys. Rep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79)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o,Ibanescu, Johnson, and Joannopoulos, Scie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003)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3040" y="2666880"/>
            <a:ext cx="8337600" cy="2819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5638680"/>
            <a:ext cx="9575640" cy="838440"/>
          </a:xfrm>
          <a:prstGeom prst="wedgeRectCallout">
            <a:avLst>
              <a:gd name="adj1" fmla="val 9680"/>
              <a:gd name="adj2" fmla="val -12253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 the case of Cerenkov radiation in a homogeneous medium,there exist radi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 in this inhomogeneous-dielectric case even when the velocity of the cha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is below the threshold Cerenkov velo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56520" y="4724280"/>
            <a:ext cx="23112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5600" y="4876920"/>
            <a:ext cx="75121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38400" y="5029200"/>
            <a:ext cx="5695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superflu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889360" y="3352680"/>
            <a:ext cx="3466800" cy="1142640"/>
            <a:chOff x="2889360" y="3352680"/>
            <a:chExt cx="3466800" cy="114264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889360" y="3566880"/>
              <a:ext cx="3466800" cy="9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903560" y="3753360"/>
              <a:ext cx="21240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15960" y="382860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68880" y="33526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42320" y="1523880"/>
            <a:ext cx="815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luid is understood as a frictionless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a critical velocity. Now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view seem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llenge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There appears no fri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flow for a periodic superflu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4648320"/>
            <a:ext cx="6356160" cy="2020680"/>
            <a:chOff x="1981080" y="4648320"/>
            <a:chExt cx="6356160" cy="202068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981080" y="5486400"/>
              <a:ext cx="6356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540320" y="4648320"/>
              <a:ext cx="329760" cy="761760"/>
            </a:xfrm>
            <a:prstGeom prst="upDownArrow">
              <a:avLst>
                <a:gd name="adj1" fmla="val 50000"/>
                <a:gd name="adj2" fmla="val 459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740880" cy="1724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673440" y="3429000"/>
            <a:ext cx="6232680" cy="30988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73160" y="3859200"/>
            <a:ext cx="18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lat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0640" y="4567320"/>
            <a:ext cx="34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cal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bility to occ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~ 30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0120" y="1600200"/>
            <a:ext cx="8998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 Bloch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oop structure when the lattice is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BEC flows in optical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super-flow or disspative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ynamical in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ssibility of probing superfluidity  of a BEC in  an optical lattice by moving an obst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ero critical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595840" y="543096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9245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Superfluids in periodic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pot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0040" y="3200400"/>
            <a:ext cx="38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楷体"/>
              </a:rPr>
              <a:t>BEC  in optical lattice_x0003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724280"/>
            <a:ext cx="77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. Supersolid 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5486400"/>
            <a:ext cx="41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4. Crust of a neutron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3760" y="5867280"/>
            <a:ext cx="57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4) 536; Nucl. Phys.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5) 4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523880"/>
            <a:ext cx="4788000" cy="1400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93720" y="3962520"/>
            <a:ext cx="65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. Paired Fermi gas in optical lattice_x0003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erfluidity of BEC: the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01640" y="2705040"/>
                <a:ext cx="38797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h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¶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|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" name=""/>
          <p:cNvGrpSpPr/>
          <p:nvPr/>
        </p:nvGrpSpPr>
        <p:grpSpPr>
          <a:xfrm>
            <a:off x="992520" y="4114800"/>
            <a:ext cx="2226600" cy="749160"/>
            <a:chOff x="992520" y="4114800"/>
            <a:chExt cx="2226600" cy="74916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228760" y="4114800"/>
                  <a:ext cx="99036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i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992520" y="4343400"/>
              <a:ext cx="10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low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483160" y="5894280"/>
                <a:ext cx="2158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b>
                          <m:e>
                            <m:r>
                              <m:t xml:space="preserve">p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9" name=""/>
          <p:cNvGrpSpPr/>
          <p:nvPr/>
        </p:nvGrpSpPr>
        <p:grpSpPr>
          <a:xfrm>
            <a:off x="4010040" y="3538440"/>
            <a:ext cx="3631680" cy="728640"/>
            <a:chOff x="4010040" y="3538440"/>
            <a:chExt cx="3631680" cy="728640"/>
          </a:xfrm>
        </p:grpSpPr>
        <p:sp>
          <p:nvSpPr>
            <p:cNvPr id="100" name=""/>
            <p:cNvSpPr/>
            <p:nvPr/>
          </p:nvSpPr>
          <p:spPr>
            <a:xfrm>
              <a:off x="4010040" y="376704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Frictionl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989320" y="3538440"/>
                  <a:ext cx="16524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|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|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&lt;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4011840" y="4605480"/>
            <a:ext cx="3629880" cy="728640"/>
            <a:chOff x="4011840" y="4605480"/>
            <a:chExt cx="3629880" cy="728640"/>
          </a:xfrm>
        </p:grpSpPr>
        <p:sp>
          <p:nvSpPr>
            <p:cNvPr id="103" name=""/>
            <p:cNvSpPr/>
            <p:nvPr/>
          </p:nvSpPr>
          <p:spPr>
            <a:xfrm>
              <a:off x="4011840" y="4757760"/>
              <a:ext cx="17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issipativ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989320" y="4605480"/>
                  <a:ext cx="165240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|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|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&gt;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3384720" y="3962520"/>
            <a:ext cx="330120" cy="1252440"/>
          </a:xfrm>
          <a:custGeom>
            <a:avLst/>
            <a:gdLst>
              <a:gd name="textAreaLeft" fmla="*/ 210960 w 330120"/>
              <a:gd name="textAreaRight" fmla="*/ 330480 w 330120"/>
              <a:gd name="textAreaTop" fmla="*/ 32400 h 1252440"/>
              <a:gd name="textAreaBottom" fmla="*/ 122004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62160" y="4975200"/>
                <a:ext cx="15224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t xml:space="preserve">µ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476440" y="1523880"/>
            <a:ext cx="36324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26040" y="1828800"/>
            <a:ext cx="1057320" cy="304920"/>
          </a:xfrm>
          <a:prstGeom prst="rightArrow">
            <a:avLst>
              <a:gd name="adj1" fmla="val 50000"/>
              <a:gd name="adj2" fmla="val 86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480" y="60199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s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832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erfluidity of BEC: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27400" y="1676520"/>
            <a:ext cx="4953240" cy="3697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38480" y="5867280"/>
            <a:ext cx="2695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00) 22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238400" y="1600200"/>
            <a:ext cx="216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 flows in optical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24240" y="2666880"/>
            <a:ext cx="36320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00200" y="1447920"/>
            <a:ext cx="5430600" cy="976320"/>
            <a:chOff x="1600200" y="1447920"/>
            <a:chExt cx="5430600" cy="97632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755440" y="1524240"/>
                  <a:ext cx="99036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i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1600200" y="1752840"/>
              <a:ext cx="28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low             wi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819320" y="1447920"/>
                  <a:ext cx="221148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|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|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&lt;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0" name=""/>
          <p:cNvSpPr/>
          <p:nvPr/>
        </p:nvSpPr>
        <p:spPr>
          <a:xfrm>
            <a:off x="875160" y="5199120"/>
            <a:ext cx="828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How does the BEC superflow respo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the optical lattice turned on adiabatic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73840" y="2895480"/>
            <a:ext cx="1057320" cy="304920"/>
          </a:xfrm>
          <a:prstGeom prst="rightArrow">
            <a:avLst>
              <a:gd name="adj1" fmla="val 50000"/>
              <a:gd name="adj2" fmla="val 86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61600" y="3581280"/>
            <a:ext cx="8924040" cy="735840"/>
            <a:chOff x="561600" y="3581280"/>
            <a:chExt cx="8924040" cy="735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90120" y="3581280"/>
              <a:ext cx="7868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631640" y="3848040"/>
              <a:ext cx="18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iabatica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1600" y="38574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al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673440" y="3276720"/>
            <a:ext cx="5103720" cy="2388960"/>
            <a:chOff x="3673440" y="3276720"/>
            <a:chExt cx="5103720" cy="23889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4732200" y="3276720"/>
              <a:ext cx="404496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673440" y="4329000"/>
              <a:ext cx="1058760" cy="486000"/>
            </a:xfrm>
            <a:prstGeom prst="rightArrow">
              <a:avLst>
                <a:gd name="adj1" fmla="val 50000"/>
                <a:gd name="adj2" fmla="val 544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bosons in a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1828800"/>
            <a:ext cx="4210200" cy="91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 bo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29480" y="2133720"/>
            <a:ext cx="1057320" cy="304560"/>
          </a:xfrm>
          <a:prstGeom prst="rightArrow">
            <a:avLst>
              <a:gd name="adj1" fmla="val 50000"/>
              <a:gd name="adj2" fmla="val 86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07920" y="4116240"/>
            <a:ext cx="2503440" cy="15624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225360" y="1371600"/>
            <a:ext cx="1920960" cy="1239840"/>
            <a:chOff x="225360" y="1371600"/>
            <a:chExt cx="1920960" cy="1239840"/>
          </a:xfrm>
        </p:grpSpPr>
        <p:grpSp>
          <p:nvGrpSpPr>
            <p:cNvPr id="134" name=""/>
            <p:cNvGrpSpPr/>
            <p:nvPr/>
          </p:nvGrpSpPr>
          <p:grpSpPr>
            <a:xfrm>
              <a:off x="227520" y="1371600"/>
              <a:ext cx="1918800" cy="744480"/>
              <a:chOff x="227520" y="1371600"/>
              <a:chExt cx="1918800" cy="744480"/>
            </a:xfrm>
          </p:grpSpPr>
          <mc:AlternateContent>
            <mc:Choice xmlns:a14="http://schemas.microsoft.com/office/drawing/2010/main" Requires="a14">
              <p:sp>
                <p:nvSpPr>
                  <p:cNvPr id="135" name=""/>
                  <p:cNvSpPr txBox="1"/>
                  <p:nvPr/>
                </p:nvSpPr>
                <p:spPr>
                  <a:xfrm>
                    <a:off x="1155600" y="1371600"/>
                    <a:ext cx="990720" cy="652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" name=""/>
              <p:cNvSpPr/>
              <p:nvPr/>
            </p:nvSpPr>
            <p:spPr>
              <a:xfrm>
                <a:off x="227520" y="1595520"/>
                <a:ext cx="93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225360" y="2133720"/>
                  <a:ext cx="152244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µ</m:t>
                      </m:r>
                      <m:r>
                        <m:t xml:space="preserve">|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907920" y="2819520"/>
            <a:ext cx="7868880" cy="1296720"/>
            <a:chOff x="907920" y="2819520"/>
            <a:chExt cx="7868880" cy="1296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907920" y="2819520"/>
              <a:ext cx="786888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573520" y="374976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650600" y="3048120"/>
              <a:ext cx="1650600" cy="623880"/>
              <a:chOff x="1650600" y="3048120"/>
              <a:chExt cx="1650600" cy="623880"/>
            </a:xfrm>
          </p:grpSpPr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1980720" y="3352680"/>
                    <a:ext cx="82188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3" name=""/>
              <p:cNvSpPr/>
              <p:nvPr/>
            </p:nvSpPr>
            <p:spPr>
              <a:xfrm>
                <a:off x="1650600" y="312408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01200" y="30481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50600" y="3276720"/>
                <a:ext cx="1650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7257960" y="5295960"/>
            <a:ext cx="1652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15240" y="457200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5240" y="473868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51400" y="4890960"/>
            <a:ext cx="1306080" cy="1828800"/>
            <a:chOff x="4451400" y="4890960"/>
            <a:chExt cx="1306080" cy="182880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451400" y="6001920"/>
                  <a:ext cx="130608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|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 flipV="1">
              <a:off x="5104440" y="4890960"/>
              <a:ext cx="427680" cy="11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 Bloch bands  in optical lat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24120" y="1905120"/>
            <a:ext cx="363240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0240" y="2819520"/>
            <a:ext cx="7869240" cy="266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73720" y="2133720"/>
            <a:ext cx="1057320" cy="304560"/>
          </a:xfrm>
          <a:prstGeom prst="rightArrow">
            <a:avLst>
              <a:gd name="adj1" fmla="val 50000"/>
              <a:gd name="adj2" fmla="val 86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36880" y="1568520"/>
            <a:ext cx="2002680" cy="672840"/>
            <a:chOff x="236880" y="1568520"/>
            <a:chExt cx="2002680" cy="67284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248480" y="1568520"/>
                  <a:ext cx="99108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i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  <m:r>
                            <m:t xml:space="preserve">⋅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236880" y="1720800"/>
              <a:ext cx="93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61040" y="3457440"/>
            <a:ext cx="4141800" cy="24447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60240" y="3124080"/>
            <a:ext cx="4167000" cy="3568680"/>
            <a:chOff x="660240" y="3124080"/>
            <a:chExt cx="4167000" cy="356868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660240" y="3124080"/>
              <a:ext cx="4044960" cy="2389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1870560" y="5902200"/>
                  <a:ext cx="295668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|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v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ph</m:t>
                              </m:r>
                            </m:num>
                            <m:den>
                              <m:r>
                                <m:t xml:space="preserve">λm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 flipV="1">
              <a:off x="3350160" y="4809960"/>
              <a:ext cx="428040" cy="1092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66320" y="4626000"/>
              <a:ext cx="164880" cy="1522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60240" y="3321000"/>
            <a:ext cx="2684520" cy="25812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0240" y="2282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linear Landau-Zener tunn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9658440" cy="17035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2558880" y="2133720"/>
            <a:ext cx="5035320" cy="4338360"/>
            <a:chOff x="2558880" y="2133720"/>
            <a:chExt cx="5035320" cy="433836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2558880" y="2133720"/>
              <a:ext cx="5035320" cy="4338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2558880" y="3962520"/>
                  <a:ext cx="336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uBiao</cp:lastModifiedBy>
  <cp:lastPrinted>2007-12-13T13:16:13Z</cp:lastPrinted>
  <dcterms:modified xsi:type="dcterms:W3CDTF">2007-12-13T14:28:49Z</dcterms:modified>
  <cp:revision>423</cp:revision>
  <dc:subject/>
  <dc:title>周期势中超流体的 两种临界速度</dc:title>
</cp:coreProperties>
</file>