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b2b2">
                  <a:alpha val="68235"/>
                </a:srgbClr>
              </a:gs>
              <a:gs pos="100000">
                <a:srgbClr val="00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216360" y="836640"/>
            <a:ext cx="939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LDA+Gutzwiller Method for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orrelated Mater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637000"/>
            <a:ext cx="7993080" cy="180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Xi Da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nstitute of Physic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宋体"/>
              </a:rPr>
              <a:t>Chinese Academy of Sci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ahoma"/>
                <a:ea typeface="宋体"/>
              </a:rPr>
              <a:t>Collaborators: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XiaoYu Deng, Zhong Fa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3440" y="587700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 honor of seventieth  birthday of Prof. Yu Lu and Prof. Su Zhao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kness of L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f interaction: spin and orbital phy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ynamical correlation effec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lt;Q1Q2&gt;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≠&lt;Q1&gt;&lt;Q2&gt;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n LDA can be improved? SIC, LDA+U, GW, CI, LDA+DMFT and LDA+Gutzwil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DA: The best single Slater Determinant wave function for the real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79280" y="184464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s very well if the correlation effect is not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electron moves under the potential created by all the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k of dynamical correlation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Slater determinant is not always en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kind of states can not be described by single Slater determin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4760" y="2590920"/>
            <a:ext cx="5105160" cy="350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S trial wav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do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al quantum Hall state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vy Ferm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we improve LDA with many-body techniq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31640" y="2133360"/>
            <a:ext cx="3240360" cy="316692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W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A+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A+DM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DA+Gutzwiller: try to find the best Gutzwiller  like trial wave function!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Gutzwiller Appro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1-band Hubbar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44680" y="1943280"/>
            <a:ext cx="644040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2920" y="1836720"/>
            <a:ext cx="7047000" cy="4545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Gutzwiller Appro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Wave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Gutzwiller Appro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Results for 1-band Habbar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54160" y="1754280"/>
            <a:ext cx="70898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utzwiller approach for multi-orbita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16360" y="2492280"/>
            <a:ext cx="2519280" cy="1067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3860640"/>
            <a:ext cx="4392720" cy="1078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896120" y="5013360"/>
            <a:ext cx="5048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: many body configurations on a single 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Single band: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N-band: 2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35280" y="4581360"/>
            <a:ext cx="93672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4581360"/>
            <a:ext cx="936360" cy="5763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Gutzwiller Approach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Generalizing to Multi-orbi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3960" y="1484280"/>
            <a:ext cx="8078760" cy="98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-7920" y="4437000"/>
                <a:ext cx="9151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α</m:t>
                        </m:r>
                        <m:r>
                          <m:t xml:space="preserve">,</m:t>
                        </m:r>
                        <m:r>
                          <m:t xml:space="preserve">jβ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αjβ</m:t>
                            </m:r>
                          </m:sub>
                        </m:sSub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α</m:t>
                            </m:r>
                          </m:sub>
                          <m:sup/>
                        </m:sSubSup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α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β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β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Γ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Γ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σ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ασ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ασ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ασ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2914560" y="2854440"/>
            <a:ext cx="289080" cy="1079280"/>
          </a:xfrm>
          <a:prstGeom prst="downArrow">
            <a:avLst>
              <a:gd name="adj1" fmla="val 50000"/>
              <a:gd name="adj2" fmla="val 93337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632040" y="2981160"/>
                <a:ext cx="41799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582920" y="4916520"/>
            <a:ext cx="18072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300640"/>
            <a:ext cx="5437080" cy="1262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4356000" cy="8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38200" y="326880"/>
            <a:ext cx="6013440" cy="54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rodu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(Problems of L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   Gutzwiller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DA+Gutzwiller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enchmarks: Fe, Ni, SrVO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local interaction terms for 3d material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789360"/>
            <a:ext cx="2016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nsity-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8560" y="4700520"/>
            <a:ext cx="109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in 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8920" y="5564160"/>
            <a:ext cx="164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ir h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400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76360" y="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3640" y="5300640"/>
            <a:ext cx="105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4437000"/>
            <a:ext cx="10573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3500280"/>
            <a:ext cx="863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6516720" cy="3479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63560" y="2058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Three orbitals: (xz, yz) and (x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15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utzwill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835280" y="996840"/>
                <a:ext cx="3219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3800" y="98100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L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7920" y="1009800"/>
                <a:ext cx="2656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763640" y="1700280"/>
                <a:ext cx="1525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⟨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273560" y="1933560"/>
                <a:ext cx="2314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3492360" y="206388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51240" y="199080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(KS Eq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30520" y="2997360"/>
                <a:ext cx="4065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39960" y="299736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LDA+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124680" y="3025800"/>
                <a:ext cx="2768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|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900000" y="5037120"/>
                <a:ext cx="145728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ρ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⟨</m:t>
                            </m:r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ρ</m:t>
                            </m:r>
                            <m:r>
                              <m:t xml:space="preserve">,</m:t>
                            </m:r>
                            <m:r>
                              <m:t xml:space="preserve">q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062240" y="5603760"/>
                <a:ext cx="259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  <m:r>
                      <m:t xml:space="preserve">=</m:t>
                    </m:r>
                    <m:r>
                      <m:t xml:space="preserve">ε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3422520" y="573408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85720" y="5661000"/>
            <a:ext cx="20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  <a:ea typeface="宋体"/>
              </a:rPr>
              <a:t>(eff. KS Eq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2781360"/>
            <a:ext cx="8569080" cy="0"/>
          </a:xfrm>
          <a:prstGeom prst="line">
            <a:avLst/>
          </a:prstGeom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244520" y="4106880"/>
                <a:ext cx="42642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Γ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070680" y="4105440"/>
                <a:ext cx="29653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3276720" y="357336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7440" y="3573360"/>
            <a:ext cx="358920" cy="576360"/>
          </a:xfrm>
          <a:prstGeom prst="downArrow">
            <a:avLst>
              <a:gd name="adj1" fmla="val 50000"/>
              <a:gd name="adj2" fmla="val 40145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5229360"/>
            <a:ext cx="287280" cy="129528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uble counting of the correlation energ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of the interaction energy has been counted tw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double counting term: Un(n-1)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ee energy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059280" y="5589720"/>
            <a:ext cx="455760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utzwiller v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U &amp; LDA+DMF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9280" y="1639800"/>
            <a:ext cx="8798040" cy="1068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67280" y="2997360"/>
            <a:ext cx="288720" cy="792000"/>
          </a:xfrm>
          <a:prstGeom prst="downArrow">
            <a:avLst>
              <a:gd name="adj1" fmla="val 50000"/>
              <a:gd name="adj2" fmla="val 68579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8881400">
            <a:off x="6336360" y="2961000"/>
            <a:ext cx="289080" cy="792360"/>
          </a:xfrm>
          <a:prstGeom prst="downArrow">
            <a:avLst>
              <a:gd name="adj1" fmla="val 50000"/>
              <a:gd name="adj2" fmla="val 68524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rot="2718600">
            <a:off x="1942920" y="2961000"/>
            <a:ext cx="289080" cy="792000"/>
          </a:xfrm>
          <a:prstGeom prst="downArrow">
            <a:avLst>
              <a:gd name="adj1" fmla="val 50000"/>
              <a:gd name="adj2" fmla="val 68493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000" y="3929040"/>
            <a:ext cx="19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atic 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653000"/>
            <a:ext cx="288720" cy="792000"/>
          </a:xfrm>
          <a:prstGeom prst="downArrow">
            <a:avLst>
              <a:gd name="adj1" fmla="val 50000"/>
              <a:gd name="adj2" fmla="val 68579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8200" y="558648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DA+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49680" y="3929040"/>
            <a:ext cx="10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G(</a:t>
            </a:r>
            <a:r>
              <a:rPr b="1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ω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4653000"/>
            <a:ext cx="288720" cy="792000"/>
          </a:xfrm>
          <a:prstGeom prst="downArrow">
            <a:avLst>
              <a:gd name="adj1" fmla="val 50000"/>
              <a:gd name="adj2" fmla="val 68579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38040" y="5586480"/>
            <a:ext cx="24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DA+DM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08680" y="3789360"/>
            <a:ext cx="113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q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  <a:ea typeface="宋体"/>
              </a:rPr>
              <a:t>i</a:t>
            </a:r>
            <a:r>
              <a:rPr b="1" lang="el-GR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(</a:t>
            </a:r>
            <a:r>
              <a:rPr b="1" lang="el-GR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62920" y="4657680"/>
            <a:ext cx="288720" cy="792360"/>
          </a:xfrm>
          <a:prstGeom prst="downArrow">
            <a:avLst>
              <a:gd name="adj1" fmla="val 50000"/>
              <a:gd name="adj2" fmla="val 68610"/>
            </a:avLst>
          </a:prstGeom>
          <a:solidFill>
            <a:srgbClr val="00ff00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88720" y="559116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LDA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Difficulty of DM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484280"/>
            <a:ext cx="7632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mpurity Sol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  Heavy calculations for Multi-orbita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fficult for low-T ordered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nd disper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utzwill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Self-consistent Calculation of 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760" y="1481040"/>
            <a:ext cx="59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uper-cell + Constrained 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692360" y="2208240"/>
            <a:ext cx="5688000" cy="19414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67280" y="422100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lculated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95000" y="4869000"/>
            <a:ext cx="65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Fe = 6.9eV,  Co = 7.8 eV,  Ni = 9.0 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69040" y="578952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J = 0.9 eV is used for all Fe, Co &amp; 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836000" y="5154480"/>
            <a:ext cx="15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DA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8520" y="50133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89000"/>
            <a:ext cx="849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 results for 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0000" y="1557360"/>
            <a:ext cx="4284720" cy="3487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990160" y="5516640"/>
            <a:ext cx="4184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30% band na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point problem s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17672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69840"/>
            <a:ext cx="849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 results for 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248000" cy="3092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979640" y="3789360"/>
            <a:ext cx="4176720" cy="3040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4920" y="765000"/>
            <a:ext cx="4248000" cy="30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95280" y="189000"/>
            <a:ext cx="849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LDA+G for bulk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967040"/>
            <a:ext cx="70563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LDA          LDA+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Ni:  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-10%                -1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           30%                 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           30%                 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Fe   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-12%                 -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           34%                  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           15%                  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6600" y="1197000"/>
            <a:ext cx="48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Compared with Exp.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4365720"/>
            <a:ext cx="8280360" cy="0"/>
          </a:xfrm>
          <a:prstGeom prst="line">
            <a:avLst/>
          </a:prstGeom>
          <a:ln cap="sq"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agnetic metal: SrVO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71640" y="1635120"/>
            <a:ext cx="720072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36040" y="1159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FT &amp; First-principles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901880" y="728640"/>
                <a:ext cx="2741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38160" y="1557360"/>
                <a:ext cx="55022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∇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≠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|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|</m:t>
                                </m:r>
                              </m:den>
                            </m:f>
                          </m:e>
                        </m:nary>
                      </m:e>
                    </m:d>
                    <m:r>
                      <m:t xml:space="preserve">ψ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ε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5640" y="3038400"/>
                <a:ext cx="62596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dr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659480" y="27813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77840" y="4365720"/>
                <a:ext cx="52945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798640" y="116064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08360" y="245736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01880" y="3789360"/>
            <a:ext cx="358920" cy="647640"/>
          </a:xfrm>
          <a:prstGeom prst="downArrow">
            <a:avLst>
              <a:gd name="adj1" fmla="val 50000"/>
              <a:gd name="adj2" fmla="val 45110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4320" y="711360"/>
            <a:ext cx="2732040" cy="5205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Atoms+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38360" y="1628640"/>
            <a:ext cx="194256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Many-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07800" y="4221000"/>
            <a:ext cx="239364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Single-part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58240" y="2924280"/>
            <a:ext cx="1821960" cy="947160"/>
          </a:xfrm>
          <a:prstGeom prst="rect">
            <a:avLst/>
          </a:prstGeom>
          <a:solidFill>
            <a:srgbClr val="ffff99"/>
          </a:solidFill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52520" y="1268280"/>
            <a:ext cx="27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Adiabatic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36400" y="256536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Hohenberg-Ko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7000" y="389736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Kohn-Sh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8360" y="5049720"/>
            <a:ext cx="358560" cy="647640"/>
          </a:xfrm>
          <a:prstGeom prst="downArrow">
            <a:avLst>
              <a:gd name="adj1" fmla="val 50000"/>
              <a:gd name="adj2" fmla="val 45156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1680" y="515772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宋体"/>
              </a:rPr>
              <a:t>Hellmann-Feyn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87360" y="5722920"/>
            <a:ext cx="2198520" cy="459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ce an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24360" y="6308640"/>
            <a:ext cx="0" cy="2160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3840" y="6524640"/>
            <a:ext cx="284508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6000" y="944640"/>
            <a:ext cx="0" cy="55800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000" y="944640"/>
            <a:ext cx="154764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000" y="588312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  <a:ea typeface="ＭＳ Ｐゴシック"/>
              </a:rPr>
              <a:t>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889360"/>
            <a:ext cx="0" cy="241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2889360"/>
            <a:ext cx="9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84360" y="2889360"/>
            <a:ext cx="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5337000"/>
            <a:ext cx="90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584360" y="5121000"/>
            <a:ext cx="0" cy="21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080" y="363852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4360" y="358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1989000"/>
            <a:ext cx="75614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DA+Gutzwiller method is develo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  Full self-consis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bout one order improvement for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ch cheaper than LDA+DM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36576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谢谢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34360" y="1492200"/>
            <a:ext cx="513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宋体"/>
              </a:rPr>
              <a:t>Thanks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宋体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for your atten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89160" y="476280"/>
            <a:ext cx="67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Self-consistent Solver for KS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58920" y="1197000"/>
                <a:ext cx="55087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92000" y="4976640"/>
                <a:ext cx="7605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[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x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+</m:t>
                        </m:r>
                      </m:e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dr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C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58920" y="3429000"/>
                <a:ext cx="54403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|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δ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c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δ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8000" y="2421000"/>
                <a:ext cx="2089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ccu</m:t>
                        </m:r>
                      </m:sup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448000" y="2097000"/>
            <a:ext cx="260280" cy="505080"/>
          </a:xfrm>
          <a:prstGeom prst="downArrow">
            <a:avLst>
              <a:gd name="adj1" fmla="val 50000"/>
              <a:gd name="adj2" fmla="val 48513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75000" y="3176640"/>
            <a:ext cx="260280" cy="504720"/>
          </a:xfrm>
          <a:prstGeom prst="downArrow">
            <a:avLst>
              <a:gd name="adj1" fmla="val 50000"/>
              <a:gd name="adj2" fmla="val 48479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4437000"/>
            <a:ext cx="260280" cy="504720"/>
          </a:xfrm>
          <a:prstGeom prst="downArrow">
            <a:avLst>
              <a:gd name="adj1" fmla="val 50000"/>
              <a:gd name="adj2" fmla="val 48479"/>
            </a:avLst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1665360"/>
            <a:ext cx="0" cy="46432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345360"/>
            <a:ext cx="216036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19280" y="5697360"/>
            <a:ext cx="0" cy="6480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1628640"/>
            <a:ext cx="72072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7280" y="28828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  <a:ea typeface="ＭＳ Ｐゴシック"/>
              </a:rPr>
              <a:t>S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09160" y="2168640"/>
            <a:ext cx="1108800" cy="10688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G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58920" y="2781360"/>
            <a:ext cx="1513080" cy="68400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5160" y="4730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pplicability of DFT for T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77160" y="2185920"/>
            <a:ext cx="1780920" cy="155700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Long-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35400" y="2370240"/>
            <a:ext cx="2538360" cy="11912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Correlated-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MIT critic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60480" y="2781360"/>
            <a:ext cx="944280" cy="4597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03640" y="2960640"/>
            <a:ext cx="684000" cy="252360"/>
          </a:xfrm>
          <a:prstGeom prst="rightArrow">
            <a:avLst>
              <a:gd name="adj1" fmla="val 50000"/>
              <a:gd name="adj2" fmla="val 67760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9640" y="2889360"/>
            <a:ext cx="684360" cy="252360"/>
          </a:xfrm>
          <a:prstGeom prst="rightArrow">
            <a:avLst>
              <a:gd name="adj1" fmla="val 50000"/>
              <a:gd name="adj2" fmla="val 67796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3640" y="4437000"/>
            <a:ext cx="759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41800" y="4508640"/>
            <a:ext cx="73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e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4000" y="5229360"/>
            <a:ext cx="110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ＭＳ Ｐゴシック"/>
              </a:rPr>
              <a:t>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ＭＳ Ｐゴシック"/>
              </a:rPr>
              <a:t>G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21080" y="5373720"/>
            <a:ext cx="15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ＭＳ Ｐゴシック"/>
              </a:rPr>
              <a:t>LDA+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5229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870200"/>
            <a:ext cx="3887640" cy="357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3745080" cy="3458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4520" y="536904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56720" y="530064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30160" y="61498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J. H. Cho and M. Scheffle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, PRB (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574560"/>
            <a:ext cx="849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Example-1: DFT results for 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31400" y="4941720"/>
            <a:ext cx="9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38520" y="501336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L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74560"/>
            <a:ext cx="849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Example-2: DFT results for 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1916280"/>
            <a:ext cx="4753080" cy="271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0000" y="1557360"/>
            <a:ext cx="4284720" cy="3487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83080" y="5516640"/>
            <a:ext cx="3146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30% w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X point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3720" y="5489640"/>
            <a:ext cx="367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D.J. Singh, PRB (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67000" y="5508720"/>
            <a:ext cx="3823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G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M.Z.Hasan, PRL (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574560"/>
            <a:ext cx="849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Example-3: NaCo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Comic Sans MS"/>
                <a:ea typeface="ＭＳ Ｐゴシック"/>
              </a:rPr>
              <a:t>2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O</a:t>
            </a:r>
            <a:r>
              <a:rPr b="0" lang="en-US" sz="4400" spc="-1" strike="noStrike" baseline="-25000">
                <a:solidFill>
                  <a:srgbClr val="ff3300"/>
                </a:solidFill>
                <a:latin typeface="Comic Sans MS"/>
                <a:ea typeface="ＭＳ Ｐゴシック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658880"/>
            <a:ext cx="3419640" cy="364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26080" y="1647720"/>
            <a:ext cx="402264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08160" y="5445000"/>
            <a:ext cx="44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.Y. Savrasov &amp; G.  Kot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Nature 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89000"/>
            <a:ext cx="849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  <a:ea typeface="ＭＳ Ｐゴシック"/>
              </a:rPr>
              <a:t>Example-4: Plutonium (Pu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162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4T14:48:43Z</dcterms:created>
  <dc:creator>Qian Niu</dc:creator>
  <dc:description/>
  <dc:language>en-US</dc:language>
  <cp:lastModifiedBy>dai_xi</cp:lastModifiedBy>
  <dcterms:modified xsi:type="dcterms:W3CDTF">2007-12-16T08:37:44Z</dcterms:modified>
  <cp:revision>1495</cp:revision>
  <dc:subject/>
  <dc:title>Novel hesteresis features in molecular and nano magnets </dc:title>
</cp:coreProperties>
</file>