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21.jpeg" ContentType="image/jpeg"/>
  <Override PartName="/ppt/media/image3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30.wmf" ContentType="image/x-wmf"/>
  <Override PartName="/ppt/media/image33.jpeg" ContentType="image/jpeg"/>
  <Override PartName="/ppt/media/image31.wmf" ContentType="image/x-wmf"/>
  <Override PartName="/ppt/media/image34.jpeg" ContentType="image/jpeg"/>
  <Override PartName="/ppt/media/image35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png" ContentType="image/png"/>
  <Override PartName="/ppt/media/image29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26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AF9-79BC-4B11-9802-3BD1C07F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E01-0847-4324-9909-1C61882F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7ED-F391-485F-8C76-4DB3D2EC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87B-6148-4EB3-B5F1-6329531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FAC-0C65-4730-87A6-009BBCE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DE4-E150-4B21-AF2B-275ED6D8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224-1D72-40A0-90AE-62D84A52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219-6125-4319-83B6-0EE9090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859-CD03-4456-8597-AE866BB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5CF-17B8-4DB9-BA24-D1A85A0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159-0C82-4F61-95A9-AD6471A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E14-2E42-40C6-93F6-EB45287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3D3-4118-43C8-994B-FAA529AFD1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15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8ef"/>
                </a:solidFill>
                <a:latin typeface="Arial"/>
                <a:ea typeface="宋体"/>
              </a:rPr>
              <a:t>The Classical and Quantum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Gauge-glass in 2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42670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collaboration with Qinghu Chen (ZJU) and Peiqing Tong (NJN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209680"/>
            <a:ext cx="60195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i-Han T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partment of Physics, Hong Kong Baptist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5867280"/>
            <a:ext cx="53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ork supported by the Research Grants Council of the HKS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648320" cy="716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ummary: Classical Gauge Glass: zero-temperature criti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657600"/>
            <a:ext cx="3581280" cy="1066680"/>
          </a:xfrm>
          <a:prstGeom prst="parallelogram">
            <a:avLst>
              <a:gd name="adj" fmla="val 83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03848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9625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43434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11480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419720"/>
            <a:ext cx="15264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4114800"/>
            <a:ext cx="15264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380988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962520"/>
            <a:ext cx="15228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670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743200" y="3200400"/>
          <a:ext cx="30492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00400"/>
                    <a:ext cx="3049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flipV="1">
            <a:off x="16002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1676520"/>
          <a:ext cx="4487760" cy="58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676520"/>
                    <a:ext cx="44877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V="1">
            <a:off x="6553080" y="457200"/>
            <a:ext cx="533520" cy="457200"/>
          </a:xfrm>
          <a:prstGeom prst="line">
            <a:avLst/>
          </a:prstGeom>
          <a:ln w="38160">
            <a:solidFill>
              <a:srgbClr val="39eb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426708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809880"/>
            <a:ext cx="15264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57200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4267080"/>
            <a:ext cx="15264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380988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724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nd state vo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784840" y="3124080"/>
          <a:ext cx="93996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4840" y="3124080"/>
                    <a:ext cx="9399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05520" y="388620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minishing “roton” energy scale on increasing length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w-lying roton excitations 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ynamic implicatio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3048120"/>
            <a:ext cx="1447560" cy="457200"/>
          </a:xfrm>
          <a:prstGeom prst="rect">
            <a:avLst/>
          </a:prstGeom>
          <a:noFill/>
          <a:ln w="284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866920" y="228240"/>
            <a:ext cx="3005640" cy="2413440"/>
            <a:chOff x="5866920" y="228240"/>
            <a:chExt cx="3005640" cy="2413440"/>
          </a:xfrm>
        </p:grpSpPr>
        <p:sp>
          <p:nvSpPr>
            <p:cNvPr id="226" name=""/>
            <p:cNvSpPr/>
            <p:nvPr/>
          </p:nvSpPr>
          <p:spPr>
            <a:xfrm>
              <a:off x="6170400" y="257400"/>
              <a:ext cx="679680" cy="633240"/>
            </a:xfrm>
            <a:custGeom>
              <a:avLst/>
              <a:gdLst/>
              <a:ahLst/>
              <a:rect l="l" t="t" r="r" b="b"/>
              <a:pathLst>
                <a:path w="428" h="399">
                  <a:moveTo>
                    <a:pt x="0" y="399"/>
                  </a:moveTo>
                  <a:lnTo>
                    <a:pt x="428" y="0"/>
                  </a:lnTo>
                </a:path>
              </a:pathLst>
            </a:custGeom>
            <a:noFill/>
            <a:ln w="38160">
              <a:solidFill>
                <a:srgbClr val="39eb4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8080200" y="596880"/>
            <a:ext cx="736560" cy="24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80200" y="596880"/>
                      <a:ext cx="73656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6919920" y="714600"/>
              <a:ext cx="931680" cy="949320"/>
            </a:xfrm>
            <a:custGeom>
              <a:avLst/>
              <a:gdLst/>
              <a:ahLst/>
              <a:rect l="l" t="t" r="r" b="b"/>
              <a:pathLst>
                <a:path w="587" h="598">
                  <a:moveTo>
                    <a:pt x="0" y="0"/>
                  </a:moveTo>
                  <a:lnTo>
                    <a:pt x="587" y="598"/>
                  </a:lnTo>
                </a:path>
              </a:pathLst>
            </a:custGeom>
            <a:noFill/>
            <a:ln w="38160">
              <a:solidFill>
                <a:srgbClr val="1938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7120" y="228600"/>
              <a:ext cx="979560" cy="2349720"/>
            </a:xfrm>
            <a:custGeom>
              <a:avLst/>
              <a:gdLst/>
              <a:ahLst/>
              <a:rect l="l" t="t" r="r" b="b"/>
              <a:pathLst>
                <a:path w="720" h="1800">
                  <a:moveTo>
                    <a:pt x="720" y="0"/>
                  </a:moveTo>
                  <a:lnTo>
                    <a:pt x="0" y="710"/>
                  </a:lnTo>
                  <a:lnTo>
                    <a:pt x="0" y="1800"/>
                  </a:lnTo>
                  <a:lnTo>
                    <a:pt x="720" y="108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37120" y="1689120"/>
              <a:ext cx="2901960" cy="889200"/>
            </a:xfrm>
            <a:custGeom>
              <a:avLst/>
              <a:gdLst/>
              <a:ahLst/>
              <a:rect l="l" t="t" r="r" b="b"/>
              <a:pathLst>
                <a:path w="2060" h="720">
                  <a:moveTo>
                    <a:pt x="720" y="0"/>
                  </a:moveTo>
                  <a:lnTo>
                    <a:pt x="0" y="720"/>
                  </a:lnTo>
                  <a:lnTo>
                    <a:pt x="1390" y="720"/>
                  </a:lnTo>
                  <a:lnTo>
                    <a:pt x="2060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10200" y="228600"/>
              <a:ext cx="1947960" cy="1460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4880" y="731880"/>
              <a:ext cx="610920" cy="1528920"/>
            </a:xfrm>
            <a:custGeom>
              <a:avLst/>
              <a:gdLst/>
              <a:ahLst/>
              <a:rect l="l" t="t" r="r" b="b"/>
              <a:pathLst>
                <a:path w="385" h="963">
                  <a:moveTo>
                    <a:pt x="385" y="0"/>
                  </a:moveTo>
                  <a:cubicBezTo>
                    <a:pt x="345" y="43"/>
                    <a:pt x="207" y="145"/>
                    <a:pt x="147" y="250"/>
                  </a:cubicBezTo>
                  <a:cubicBezTo>
                    <a:pt x="87" y="355"/>
                    <a:pt x="47" y="513"/>
                    <a:pt x="24" y="633"/>
                  </a:cubicBezTo>
                  <a:cubicBezTo>
                    <a:pt x="0" y="752"/>
                    <a:pt x="9" y="894"/>
                    <a:pt x="5" y="963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84880" y="1689120"/>
              <a:ext cx="1600200" cy="571680"/>
            </a:xfrm>
            <a:custGeom>
              <a:avLst/>
              <a:gdLst/>
              <a:ahLst/>
              <a:rect l="l" t="t" r="r" b="b"/>
              <a:pathLst>
                <a:path w="1100" h="402">
                  <a:moveTo>
                    <a:pt x="0" y="400"/>
                  </a:moveTo>
                  <a:cubicBezTo>
                    <a:pt x="65" y="397"/>
                    <a:pt x="263" y="402"/>
                    <a:pt x="390" y="380"/>
                  </a:cubicBezTo>
                  <a:cubicBezTo>
                    <a:pt x="517" y="358"/>
                    <a:pt x="642" y="333"/>
                    <a:pt x="760" y="270"/>
                  </a:cubicBezTo>
                  <a:cubicBezTo>
                    <a:pt x="878" y="207"/>
                    <a:pt x="1029" y="56"/>
                    <a:pt x="1100" y="0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1200" y="304920"/>
              <a:ext cx="61596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7000" y="228600"/>
              <a:ext cx="118116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85000" y="719280"/>
              <a:ext cx="961920" cy="960480"/>
            </a:xfrm>
            <a:custGeom>
              <a:avLst/>
              <a:gdLst/>
              <a:ahLst/>
              <a:rect l="l" t="t" r="r" b="b"/>
              <a:pathLst>
                <a:path w="606" h="605">
                  <a:moveTo>
                    <a:pt x="0" y="1"/>
                  </a:moveTo>
                  <a:cubicBezTo>
                    <a:pt x="52" y="6"/>
                    <a:pt x="227" y="0"/>
                    <a:pt x="310" y="23"/>
                  </a:cubicBezTo>
                  <a:cubicBezTo>
                    <a:pt x="393" y="46"/>
                    <a:pt x="452" y="73"/>
                    <a:pt x="495" y="141"/>
                  </a:cubicBezTo>
                  <a:cubicBezTo>
                    <a:pt x="538" y="209"/>
                    <a:pt x="550" y="352"/>
                    <a:pt x="568" y="429"/>
                  </a:cubicBezTo>
                  <a:cubicBezTo>
                    <a:pt x="586" y="506"/>
                    <a:pt x="598" y="568"/>
                    <a:pt x="606" y="605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4880" y="708120"/>
              <a:ext cx="1600200" cy="1552680"/>
            </a:xfrm>
            <a:custGeom>
              <a:avLst/>
              <a:gdLst/>
              <a:ahLst/>
              <a:rect l="l" t="t" r="r" b="b"/>
              <a:pathLst>
                <a:path w="1008" h="978">
                  <a:moveTo>
                    <a:pt x="393" y="0"/>
                  </a:moveTo>
                  <a:lnTo>
                    <a:pt x="0" y="978"/>
                  </a:lnTo>
                  <a:lnTo>
                    <a:pt x="1008" y="619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866920" y="1689120"/>
              <a:ext cx="1042920" cy="9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0200" y="1689120"/>
              <a:ext cx="196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15240" y="1625760"/>
              <a:ext cx="139680" cy="127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5800" y="978120"/>
              <a:ext cx="419040" cy="390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910200" y="228240"/>
              <a:ext cx="0" cy="144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9436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Quantum Rotor Model with Random Fr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09480" y="1447920"/>
          <a:ext cx="38484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3848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195800" y="3990960"/>
            <a:ext cx="931680" cy="949320"/>
          </a:xfrm>
          <a:custGeom>
            <a:avLst/>
            <a:gdLst/>
            <a:ahLst/>
            <a:rect l="l" t="t" r="r" b="b"/>
            <a:pathLst>
              <a:path w="587" h="598">
                <a:moveTo>
                  <a:pt x="0" y="0"/>
                </a:moveTo>
                <a:lnTo>
                  <a:pt x="587" y="598"/>
                </a:lnTo>
              </a:path>
            </a:pathLst>
          </a:custGeom>
          <a:noFill/>
          <a:ln w="38160">
            <a:solidFill>
              <a:srgbClr val="1938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94360" y="4902120"/>
            <a:ext cx="11145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quan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luc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0920" y="3187800"/>
            <a:ext cx="9097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is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93960" y="5931000"/>
            <a:ext cx="132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13000" y="3505320"/>
            <a:ext cx="979560" cy="2349360"/>
          </a:xfrm>
          <a:custGeom>
            <a:avLst/>
            <a:gdLst/>
            <a:ahLst/>
            <a:rect l="l" t="t" r="r" b="b"/>
            <a:pathLst>
              <a:path w="720" h="1800">
                <a:moveTo>
                  <a:pt x="720" y="0"/>
                </a:moveTo>
                <a:lnTo>
                  <a:pt x="0" y="710"/>
                </a:lnTo>
                <a:lnTo>
                  <a:pt x="0" y="1800"/>
                </a:lnTo>
                <a:lnTo>
                  <a:pt x="720" y="1080"/>
                </a:lnTo>
                <a:lnTo>
                  <a:pt x="720" y="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13000" y="4965840"/>
            <a:ext cx="2901960" cy="888840"/>
          </a:xfrm>
          <a:custGeom>
            <a:avLst/>
            <a:gdLst/>
            <a:ahLst/>
            <a:rect l="l" t="t" r="r" b="b"/>
            <a:pathLst>
              <a:path w="2060" h="720">
                <a:moveTo>
                  <a:pt x="720" y="0"/>
                </a:moveTo>
                <a:lnTo>
                  <a:pt x="0" y="720"/>
                </a:lnTo>
                <a:lnTo>
                  <a:pt x="1390" y="720"/>
                </a:lnTo>
                <a:lnTo>
                  <a:pt x="2060" y="0"/>
                </a:lnTo>
                <a:lnTo>
                  <a:pt x="72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86080" y="3505320"/>
            <a:ext cx="1947960" cy="1460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0760" y="4008600"/>
            <a:ext cx="611280" cy="1528560"/>
          </a:xfrm>
          <a:custGeom>
            <a:avLst/>
            <a:gdLst/>
            <a:ahLst/>
            <a:rect l="l" t="t" r="r" b="b"/>
            <a:pathLst>
              <a:path w="385" h="963">
                <a:moveTo>
                  <a:pt x="385" y="0"/>
                </a:moveTo>
                <a:cubicBezTo>
                  <a:pt x="345" y="43"/>
                  <a:pt x="207" y="145"/>
                  <a:pt x="147" y="250"/>
                </a:cubicBezTo>
                <a:cubicBezTo>
                  <a:pt x="87" y="355"/>
                  <a:pt x="47" y="513"/>
                  <a:pt x="24" y="633"/>
                </a:cubicBezTo>
                <a:cubicBezTo>
                  <a:pt x="0" y="752"/>
                  <a:pt x="9" y="894"/>
                  <a:pt x="5" y="963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0760" y="4965840"/>
            <a:ext cx="1600200" cy="571320"/>
          </a:xfrm>
          <a:custGeom>
            <a:avLst/>
            <a:gdLst/>
            <a:ahLst/>
            <a:rect l="l" t="t" r="r" b="b"/>
            <a:pathLst>
              <a:path w="1100" h="402">
                <a:moveTo>
                  <a:pt x="0" y="400"/>
                </a:moveTo>
                <a:cubicBezTo>
                  <a:pt x="65" y="397"/>
                  <a:pt x="263" y="402"/>
                  <a:pt x="390" y="380"/>
                </a:cubicBezTo>
                <a:cubicBezTo>
                  <a:pt x="517" y="358"/>
                  <a:pt x="642" y="333"/>
                  <a:pt x="760" y="270"/>
                </a:cubicBezTo>
                <a:cubicBezTo>
                  <a:pt x="878" y="207"/>
                  <a:pt x="1029" y="56"/>
                  <a:pt x="1100" y="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0960" y="3517920"/>
            <a:ext cx="798480" cy="55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505320"/>
            <a:ext cx="1181160" cy="146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60880" y="3995640"/>
            <a:ext cx="961920" cy="960480"/>
          </a:xfrm>
          <a:custGeom>
            <a:avLst/>
            <a:gdLst/>
            <a:ahLst/>
            <a:rect l="l" t="t" r="r" b="b"/>
            <a:pathLst>
              <a:path w="606" h="605">
                <a:moveTo>
                  <a:pt x="0" y="1"/>
                </a:moveTo>
                <a:cubicBezTo>
                  <a:pt x="52" y="6"/>
                  <a:pt x="227" y="0"/>
                  <a:pt x="310" y="23"/>
                </a:cubicBezTo>
                <a:cubicBezTo>
                  <a:pt x="393" y="46"/>
                  <a:pt x="452" y="73"/>
                  <a:pt x="495" y="141"/>
                </a:cubicBezTo>
                <a:cubicBezTo>
                  <a:pt x="538" y="209"/>
                  <a:pt x="550" y="352"/>
                  <a:pt x="568" y="429"/>
                </a:cubicBezTo>
                <a:cubicBezTo>
                  <a:pt x="586" y="506"/>
                  <a:pt x="598" y="568"/>
                  <a:pt x="606" y="605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0760" y="3984480"/>
            <a:ext cx="1600200" cy="1552680"/>
          </a:xfrm>
          <a:custGeom>
            <a:avLst/>
            <a:gdLst/>
            <a:ahLst/>
            <a:rect l="l" t="t" r="r" b="b"/>
            <a:pathLst>
              <a:path w="1008" h="978">
                <a:moveTo>
                  <a:pt x="393" y="0"/>
                </a:moveTo>
                <a:lnTo>
                  <a:pt x="0" y="978"/>
                </a:lnTo>
                <a:lnTo>
                  <a:pt x="1008" y="619"/>
                </a:lnTo>
                <a:lnTo>
                  <a:pt x="3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142800" y="4965840"/>
            <a:ext cx="1042920" cy="95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86080" y="4965840"/>
            <a:ext cx="196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91120" y="4902120"/>
            <a:ext cx="1396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41680" y="4254480"/>
            <a:ext cx="419400" cy="390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2840" y="375912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08320" y="3568680"/>
            <a:ext cx="10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etall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230440" y="5029200"/>
            <a:ext cx="9032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07160" y="565956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D 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222360" y="3492360"/>
            <a:ext cx="990360" cy="914400"/>
          </a:xfrm>
          <a:prstGeom prst="line">
            <a:avLst/>
          </a:prstGeom>
          <a:ln w="57240">
            <a:solidFill>
              <a:srgbClr val="39eb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84640" y="3489480"/>
            <a:ext cx="1941480" cy="1440"/>
          </a:xfrm>
          <a:custGeom>
            <a:avLst/>
            <a:gdLst/>
            <a:ahLst/>
            <a:rect l="l" t="t" r="r" b="b"/>
            <a:pathLst>
              <a:path w="1223" h="1">
                <a:moveTo>
                  <a:pt x="0" y="0"/>
                </a:moveTo>
                <a:lnTo>
                  <a:pt x="1223" y="0"/>
                </a:ln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86080" y="3505320"/>
            <a:ext cx="0" cy="14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51120" y="41781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auge 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105520" y="1600200"/>
          <a:ext cx="15364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15364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5257800" y="2666880"/>
            <a:ext cx="2819520" cy="580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Nature of glass order and low energy exc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64796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438280"/>
          <a:ext cx="1359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438280"/>
                    <a:ext cx="1359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129528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Our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622600" y="876240"/>
          <a:ext cx="36320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876240"/>
                    <a:ext cx="36320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851200" y="1574640"/>
          <a:ext cx="326376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1200" y="1574640"/>
                    <a:ext cx="3263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85800" y="3352680"/>
            <a:ext cx="312408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000"/>
                </a:solidFill>
                <a:latin typeface="Arial"/>
                <a:ea typeface="宋体"/>
              </a:rPr>
              <a:t>QMC si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as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dering and corre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28600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+1 dimensional classical model with disorder in the XY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3352680"/>
            <a:ext cx="3962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be5"/>
                </a:solidFill>
                <a:latin typeface="Arial"/>
                <a:ea typeface="宋体"/>
              </a:rPr>
              <a:t>Multi-canonical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modynamic quantities for a range of K values in a singl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nown to be effective in the glas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523880"/>
            <a:ext cx="3505320" cy="685800"/>
          </a:xfrm>
          <a:prstGeom prst="rect">
            <a:avLst/>
          </a:prstGeom>
          <a:noFill/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32767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pecific h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12952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324480" cy="38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4952880" y="609480"/>
          <a:ext cx="185436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609480"/>
                    <a:ext cx="1854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981080" y="2286000"/>
            <a:ext cx="609840" cy="52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re Q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76520" y="5638680"/>
          <a:ext cx="2006640" cy="24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5638680"/>
                    <a:ext cx="200664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876920" y="5638680"/>
          <a:ext cx="2070000" cy="2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5638680"/>
                    <a:ext cx="20700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562720" cy="3140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32767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Helicity and twist mod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1905120"/>
            <a:ext cx="274320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be5"/>
                </a:solidFill>
                <a:latin typeface="Arial"/>
                <a:ea typeface="宋体"/>
              </a:rPr>
              <a:t>Phase glass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gt;0, gapless excitations, “compressi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strongly sample dependent and takes both </a:t>
            </a:r>
            <a:r>
              <a:rPr b="0" lang="en-US" sz="1800" spc="-1" strike="noStrike">
                <a:solidFill>
                  <a:srgbClr val="fc0000"/>
                </a:solidFill>
                <a:latin typeface="Arial"/>
                <a:ea typeface="宋体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1800" spc="-1" strike="noStrike">
                <a:solidFill>
                  <a:srgbClr val="fc0000"/>
                </a:solidFill>
                <a:latin typeface="Arial"/>
                <a:ea typeface="宋体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values. Reflects glass rigid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267080"/>
            <a:ext cx="0" cy="304920"/>
          </a:xfrm>
          <a:prstGeom prst="line">
            <a:avLst/>
          </a:prstGeom>
          <a:ln w="2844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267080"/>
            <a:ext cx="0" cy="304920"/>
          </a:xfrm>
          <a:prstGeom prst="line">
            <a:avLst/>
          </a:prstGeom>
          <a:ln w="2844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12952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31520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mpressibility scaling and critical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12952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638680" cy="352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752480" y="5105520"/>
          <a:ext cx="420372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105520"/>
                    <a:ext cx="42037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42900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dwards-Anderson order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2438280"/>
            <a:ext cx="2971800" cy="3429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46483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52578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828800" y="24379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828800" y="5105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66680" y="51055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380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310680" y="4273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aginar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54100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D physical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133720" y="4724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46483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4343400"/>
            <a:ext cx="381024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sistent with finit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rrec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phase excitations follow linear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onsistent with MF calculations (Read et al, PR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384 (199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33480" y="1714680"/>
          <a:ext cx="292104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714680"/>
                    <a:ext cx="29210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838080" y="1600200"/>
            <a:ext cx="3200400" cy="685800"/>
          </a:xfrm>
          <a:prstGeom prst="rect">
            <a:avLst/>
          </a:prstGeom>
          <a:noFill/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3124080"/>
            <a:ext cx="838080" cy="0"/>
          </a:xfrm>
          <a:prstGeom prst="line">
            <a:avLst/>
          </a:prstGeom>
          <a:ln w="2844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1905120"/>
            <a:ext cx="304920" cy="0"/>
          </a:xfrm>
          <a:prstGeom prst="line">
            <a:avLst/>
          </a:prstGeom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1905120"/>
            <a:ext cx="0" cy="1218960"/>
          </a:xfrm>
          <a:prstGeom prst="line">
            <a:avLst/>
          </a:prstGeom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495680" y="990720"/>
            <a:ext cx="464832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320040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Glass: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2438280"/>
            <a:ext cx="3581280" cy="1067040"/>
          </a:xfrm>
          <a:prstGeom prst="parallelogram">
            <a:avLst>
              <a:gd name="adj" fmla="val 83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28195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27432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312408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89548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3200400"/>
            <a:ext cx="15264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2895480"/>
            <a:ext cx="15264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25909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74320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03848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1981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514600" y="1981080"/>
          <a:ext cx="30492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0492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 flipV="1">
            <a:off x="137160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30481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590920"/>
            <a:ext cx="15264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35268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3048120"/>
            <a:ext cx="15264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2590920"/>
            <a:ext cx="15228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35053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nd state vo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98880" y="2654280"/>
            <a:ext cx="266760" cy="482760"/>
          </a:xfrm>
          <a:custGeom>
            <a:avLst/>
            <a:gdLst/>
            <a:ahLst/>
            <a:rect l="l" t="t" r="r" b="b"/>
            <a:pathLst>
              <a:path w="168" h="304">
                <a:moveTo>
                  <a:pt x="16" y="104"/>
                </a:moveTo>
                <a:cubicBezTo>
                  <a:pt x="32" y="72"/>
                  <a:pt x="88" y="0"/>
                  <a:pt x="112" y="8"/>
                </a:cubicBezTo>
                <a:cubicBezTo>
                  <a:pt x="136" y="16"/>
                  <a:pt x="168" y="104"/>
                  <a:pt x="160" y="152"/>
                </a:cubicBezTo>
                <a:cubicBezTo>
                  <a:pt x="152" y="200"/>
                  <a:pt x="88" y="288"/>
                  <a:pt x="64" y="296"/>
                </a:cubicBezTo>
                <a:cubicBezTo>
                  <a:pt x="40" y="304"/>
                  <a:pt x="24" y="232"/>
                  <a:pt x="16" y="200"/>
                </a:cubicBezTo>
                <a:cubicBezTo>
                  <a:pt x="8" y="168"/>
                  <a:pt x="0" y="136"/>
                  <a:pt x="16" y="104"/>
                </a:cubicBezTo>
                <a:close/>
              </a:path>
            </a:pathLst>
          </a:custGeom>
          <a:noFill/>
          <a:ln w="28440">
            <a:solidFill>
              <a:srgbClr val="ea3a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43160" y="2590920"/>
            <a:ext cx="131760" cy="685800"/>
          </a:xfrm>
          <a:custGeom>
            <a:avLst/>
            <a:gdLst/>
            <a:ahLst/>
            <a:rect l="l" t="t" r="r" b="b"/>
            <a:pathLst>
              <a:path w="83" h="432">
                <a:moveTo>
                  <a:pt x="75" y="0"/>
                </a:moveTo>
                <a:cubicBezTo>
                  <a:pt x="79" y="28"/>
                  <a:pt x="83" y="56"/>
                  <a:pt x="75" y="96"/>
                </a:cubicBezTo>
                <a:cubicBezTo>
                  <a:pt x="67" y="136"/>
                  <a:pt x="39" y="198"/>
                  <a:pt x="27" y="240"/>
                </a:cubicBezTo>
                <a:cubicBezTo>
                  <a:pt x="15" y="282"/>
                  <a:pt x="0" y="318"/>
                  <a:pt x="0" y="350"/>
                </a:cubicBezTo>
                <a:cubicBezTo>
                  <a:pt x="0" y="382"/>
                  <a:pt x="22" y="415"/>
                  <a:pt x="27" y="432"/>
                </a:cubicBezTo>
              </a:path>
            </a:pathLst>
          </a:custGeom>
          <a:noFill/>
          <a:ln w="28440">
            <a:solidFill>
              <a:srgbClr val="39eb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1371600"/>
            <a:ext cx="3581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ressible with a linear dispersion for phase ex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tons of small size dynamically exc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 very low temperatures, rotons of larger size are excited only under a change of boundary conditions, as in the classic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2362320"/>
            <a:ext cx="131760" cy="685800"/>
          </a:xfrm>
          <a:custGeom>
            <a:avLst/>
            <a:gdLst/>
            <a:ahLst/>
            <a:rect l="l" t="t" r="r" b="b"/>
            <a:pathLst>
              <a:path w="83" h="432">
                <a:moveTo>
                  <a:pt x="75" y="0"/>
                </a:moveTo>
                <a:cubicBezTo>
                  <a:pt x="79" y="28"/>
                  <a:pt x="83" y="56"/>
                  <a:pt x="75" y="96"/>
                </a:cubicBezTo>
                <a:cubicBezTo>
                  <a:pt x="67" y="136"/>
                  <a:pt x="39" y="198"/>
                  <a:pt x="27" y="240"/>
                </a:cubicBezTo>
                <a:cubicBezTo>
                  <a:pt x="15" y="282"/>
                  <a:pt x="0" y="318"/>
                  <a:pt x="0" y="350"/>
                </a:cubicBezTo>
                <a:cubicBezTo>
                  <a:pt x="0" y="382"/>
                  <a:pt x="22" y="415"/>
                  <a:pt x="27" y="432"/>
                </a:cubicBezTo>
              </a:path>
            </a:pathLst>
          </a:custGeom>
          <a:noFill/>
          <a:ln w="28440">
            <a:solidFill>
              <a:srgbClr val="39eb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762120" y="3124080"/>
            <a:ext cx="2666880" cy="1371600"/>
            <a:chOff x="762120" y="3124080"/>
            <a:chExt cx="2666880" cy="1371600"/>
          </a:xfrm>
        </p:grpSpPr>
        <p:sp>
          <p:nvSpPr>
            <p:cNvPr id="357" name=""/>
            <p:cNvSpPr/>
            <p:nvPr/>
          </p:nvSpPr>
          <p:spPr>
            <a:xfrm>
              <a:off x="12952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120" y="3124080"/>
              <a:ext cx="0" cy="1219320"/>
            </a:xfrm>
            <a:prstGeom prst="line">
              <a:avLst/>
            </a:prstGeom>
            <a:ln w="93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9000" y="3124080"/>
              <a:ext cx="0" cy="1219320"/>
            </a:xfrm>
            <a:prstGeom prst="line">
              <a:avLst/>
            </a:prstGeom>
            <a:ln w="93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2120" y="4343400"/>
              <a:ext cx="1218960" cy="0"/>
            </a:xfrm>
            <a:prstGeom prst="line">
              <a:avLst/>
            </a:prstGeom>
            <a:ln w="93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3720" y="4343400"/>
              <a:ext cx="1295280" cy="0"/>
            </a:xfrm>
            <a:prstGeom prst="line">
              <a:avLst/>
            </a:prstGeom>
            <a:ln w="93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81080" y="4190760"/>
              <a:ext cx="0" cy="304920"/>
            </a:xfrm>
            <a:prstGeom prst="line">
              <a:avLst/>
            </a:prstGeom>
            <a:ln w="93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4267080"/>
              <a:ext cx="0" cy="152280"/>
            </a:xfrm>
            <a:prstGeom prst="line">
              <a:avLst/>
            </a:prstGeom>
            <a:ln w="93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98108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ose met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2590920"/>
            <a:ext cx="3581280" cy="1066680"/>
          </a:xfrm>
          <a:prstGeom prst="parallelogram">
            <a:avLst>
              <a:gd name="adj" fmla="val 83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2971800"/>
            <a:ext cx="15264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2895480"/>
            <a:ext cx="15264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32767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3048120"/>
            <a:ext cx="15264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335268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3048120"/>
            <a:ext cx="15228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27432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2895480"/>
            <a:ext cx="15264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429000" y="2133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2133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905120" y="2133720"/>
          <a:ext cx="3045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3045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 flipV="1">
            <a:off x="762120" y="2133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3200400"/>
            <a:ext cx="15264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27432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3505320"/>
            <a:ext cx="15228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43200" y="32004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2743200"/>
            <a:ext cx="15264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3657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nd state vo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89040" y="2806560"/>
            <a:ext cx="266760" cy="482760"/>
          </a:xfrm>
          <a:custGeom>
            <a:avLst/>
            <a:gdLst/>
            <a:ahLst/>
            <a:rect l="l" t="t" r="r" b="b"/>
            <a:pathLst>
              <a:path w="168" h="304">
                <a:moveTo>
                  <a:pt x="16" y="104"/>
                </a:moveTo>
                <a:cubicBezTo>
                  <a:pt x="32" y="72"/>
                  <a:pt x="88" y="0"/>
                  <a:pt x="112" y="8"/>
                </a:cubicBezTo>
                <a:cubicBezTo>
                  <a:pt x="136" y="16"/>
                  <a:pt x="168" y="104"/>
                  <a:pt x="160" y="152"/>
                </a:cubicBezTo>
                <a:cubicBezTo>
                  <a:pt x="152" y="200"/>
                  <a:pt x="88" y="288"/>
                  <a:pt x="64" y="296"/>
                </a:cubicBezTo>
                <a:cubicBezTo>
                  <a:pt x="40" y="304"/>
                  <a:pt x="24" y="232"/>
                  <a:pt x="16" y="200"/>
                </a:cubicBezTo>
                <a:cubicBezTo>
                  <a:pt x="8" y="168"/>
                  <a:pt x="0" y="136"/>
                  <a:pt x="16" y="104"/>
                </a:cubicBezTo>
                <a:close/>
              </a:path>
            </a:pathLst>
          </a:custGeom>
          <a:noFill/>
          <a:ln w="28440">
            <a:solidFill>
              <a:srgbClr val="ea3a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33680" y="2743200"/>
            <a:ext cx="131760" cy="685800"/>
          </a:xfrm>
          <a:custGeom>
            <a:avLst/>
            <a:gdLst/>
            <a:ahLst/>
            <a:rect l="l" t="t" r="r" b="b"/>
            <a:pathLst>
              <a:path w="83" h="432">
                <a:moveTo>
                  <a:pt x="75" y="0"/>
                </a:moveTo>
                <a:cubicBezTo>
                  <a:pt x="79" y="28"/>
                  <a:pt x="83" y="56"/>
                  <a:pt x="75" y="96"/>
                </a:cubicBezTo>
                <a:cubicBezTo>
                  <a:pt x="67" y="136"/>
                  <a:pt x="39" y="198"/>
                  <a:pt x="27" y="240"/>
                </a:cubicBezTo>
                <a:cubicBezTo>
                  <a:pt x="15" y="282"/>
                  <a:pt x="0" y="318"/>
                  <a:pt x="0" y="350"/>
                </a:cubicBezTo>
                <a:cubicBezTo>
                  <a:pt x="0" y="382"/>
                  <a:pt x="22" y="415"/>
                  <a:pt x="27" y="432"/>
                </a:cubicBezTo>
              </a:path>
            </a:pathLst>
          </a:custGeom>
          <a:noFill/>
          <a:ln w="28440">
            <a:solidFill>
              <a:srgbClr val="39eb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2514600"/>
            <a:ext cx="131760" cy="685800"/>
          </a:xfrm>
          <a:custGeom>
            <a:avLst/>
            <a:gdLst/>
            <a:ahLst/>
            <a:rect l="l" t="t" r="r" b="b"/>
            <a:pathLst>
              <a:path w="83" h="432">
                <a:moveTo>
                  <a:pt x="75" y="0"/>
                </a:moveTo>
                <a:cubicBezTo>
                  <a:pt x="79" y="28"/>
                  <a:pt x="83" y="56"/>
                  <a:pt x="75" y="96"/>
                </a:cubicBezTo>
                <a:cubicBezTo>
                  <a:pt x="67" y="136"/>
                  <a:pt x="39" y="198"/>
                  <a:pt x="27" y="240"/>
                </a:cubicBezTo>
                <a:cubicBezTo>
                  <a:pt x="15" y="282"/>
                  <a:pt x="0" y="318"/>
                  <a:pt x="0" y="350"/>
                </a:cubicBezTo>
                <a:cubicBezTo>
                  <a:pt x="0" y="382"/>
                  <a:pt x="22" y="415"/>
                  <a:pt x="27" y="432"/>
                </a:cubicBezTo>
              </a:path>
            </a:pathLst>
          </a:custGeom>
          <a:noFill/>
          <a:ln w="28440">
            <a:solidFill>
              <a:srgbClr val="39eb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809880"/>
            <a:ext cx="4876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sent 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ep in the phase glass phase, large scale vortex motion dynamically prohibi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tallic behavior near the quantum critical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1752480"/>
            <a:ext cx="41148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sual scen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ercurrent induced by phase grad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hase slip due to driven vortex/antivortex mo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ss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l involve large-scale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3040" y="990720"/>
            <a:ext cx="71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. Dalidovich and P. Phillips, PR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027001 (2002); PR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114427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205740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1828800"/>
            <a:ext cx="723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ground state vortex configuration has a relatively simple structure, with only weak correlation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apless rotons provide screening and reduce phase stiffness at large di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1295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lassical 2D Gauge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35053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Quantum 2D Gauge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0720" y="403848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ase glass is compressible with linear dispersion of phase ex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antum fluctuations appear to be unimportant for vortices in the phase glass phase, which remain largely fr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ition to the MI state characterized by exponents different from the pure case. In particular, z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239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Zero-temperature criticality in the classical gauge glass:</a:t>
            </a:r>
            <a:r>
              <a:rPr b="0" lang="en-US" sz="2400" spc="-1" strike="noStrike">
                <a:solidFill>
                  <a:srgbClr val="1938ef"/>
                </a:solidFill>
                <a:latin typeface="Arial"/>
                <a:ea typeface="宋体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gapless 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ndomly frustrated quantum rotor model:</a:t>
            </a:r>
            <a:r>
              <a:rPr b="0" lang="en-US" sz="2400" spc="-1" strike="noStrike">
                <a:solidFill>
                  <a:srgbClr val="1938ef"/>
                </a:solidFill>
                <a:latin typeface="Arial"/>
                <a:ea typeface="宋体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hase glass and its characte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se Me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609480"/>
            <a:ext cx="13716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981080" y="2514600"/>
            <a:ext cx="54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  <a:ea typeface="宋体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495680" cy="308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92720" y="304920"/>
            <a:ext cx="3676680" cy="624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911320"/>
            <a:ext cx="4191120" cy="394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6127920"/>
            <a:ext cx="1524240" cy="73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azdani and Kapitulnik, PR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037 (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371600" y="35053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848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127920"/>
            <a:ext cx="2438280" cy="73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istiansen, Hernandez, and Goldman, PR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7004 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1219320"/>
            <a:ext cx="0" cy="26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962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m thic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533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/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3657600"/>
            <a:ext cx="1828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962520"/>
            <a:ext cx="304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733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006720" cy="3353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276720" cy="321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8380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thew Fisher, Weichman, Grinstein and Daniel Fisher, PR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546 (19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04920"/>
            <a:ext cx="88394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fluid to Mott insulator transition for repulsive bo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1371600"/>
          <a:ext cx="586764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371600"/>
                    <a:ext cx="58676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895480" y="2438280"/>
            <a:ext cx="1067040" cy="307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r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2438280"/>
            <a:ext cx="1219320" cy="520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dom on-site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791320"/>
            <a:ext cx="81532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38ef"/>
                </a:solidFill>
                <a:latin typeface="Arial"/>
              </a:rPr>
              <a:t>Superconductor/superfluid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3f4be5"/>
                </a:solidFill>
                <a:latin typeface="Arial"/>
              </a:rPr>
              <a:t>random phase fru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se me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1447920" cy="520200"/>
          </a:xfrm>
          <a:prstGeom prst="rect">
            <a:avLst/>
          </a:prstGeom>
          <a:solidFill>
            <a:srgbClr val="ea3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ressible but insul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48520" y="4419720"/>
            <a:ext cx="3808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9436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Quantum Rotor Model with Random Fr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9480" y="1447920"/>
          <a:ext cx="38484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3848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195800" y="3990960"/>
            <a:ext cx="931680" cy="949320"/>
          </a:xfrm>
          <a:custGeom>
            <a:avLst/>
            <a:gdLst/>
            <a:ahLst/>
            <a:rect l="l" t="t" r="r" b="b"/>
            <a:pathLst>
              <a:path w="587" h="598">
                <a:moveTo>
                  <a:pt x="0" y="0"/>
                </a:moveTo>
                <a:lnTo>
                  <a:pt x="587" y="598"/>
                </a:lnTo>
              </a:path>
            </a:pathLst>
          </a:custGeom>
          <a:noFill/>
          <a:ln w="38160">
            <a:solidFill>
              <a:srgbClr val="1938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94360" y="4902120"/>
            <a:ext cx="11145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quan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luc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0920" y="3187800"/>
            <a:ext cx="9097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is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93960" y="5931000"/>
            <a:ext cx="132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13000" y="3505320"/>
            <a:ext cx="979560" cy="2349360"/>
          </a:xfrm>
          <a:custGeom>
            <a:avLst/>
            <a:gdLst/>
            <a:ahLst/>
            <a:rect l="l" t="t" r="r" b="b"/>
            <a:pathLst>
              <a:path w="720" h="1800">
                <a:moveTo>
                  <a:pt x="720" y="0"/>
                </a:moveTo>
                <a:lnTo>
                  <a:pt x="0" y="710"/>
                </a:lnTo>
                <a:lnTo>
                  <a:pt x="0" y="1800"/>
                </a:lnTo>
                <a:lnTo>
                  <a:pt x="720" y="1080"/>
                </a:lnTo>
                <a:lnTo>
                  <a:pt x="720" y="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13000" y="4965840"/>
            <a:ext cx="2901960" cy="888840"/>
          </a:xfrm>
          <a:custGeom>
            <a:avLst/>
            <a:gdLst/>
            <a:ahLst/>
            <a:rect l="l" t="t" r="r" b="b"/>
            <a:pathLst>
              <a:path w="2060" h="720">
                <a:moveTo>
                  <a:pt x="720" y="0"/>
                </a:moveTo>
                <a:lnTo>
                  <a:pt x="0" y="720"/>
                </a:lnTo>
                <a:lnTo>
                  <a:pt x="1390" y="720"/>
                </a:lnTo>
                <a:lnTo>
                  <a:pt x="2060" y="0"/>
                </a:lnTo>
                <a:lnTo>
                  <a:pt x="72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86080" y="3505320"/>
            <a:ext cx="1947960" cy="1460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0760" y="4008600"/>
            <a:ext cx="611280" cy="1528560"/>
          </a:xfrm>
          <a:custGeom>
            <a:avLst/>
            <a:gdLst/>
            <a:ahLst/>
            <a:rect l="l" t="t" r="r" b="b"/>
            <a:pathLst>
              <a:path w="385" h="963">
                <a:moveTo>
                  <a:pt x="385" y="0"/>
                </a:moveTo>
                <a:cubicBezTo>
                  <a:pt x="345" y="43"/>
                  <a:pt x="207" y="145"/>
                  <a:pt x="147" y="250"/>
                </a:cubicBezTo>
                <a:cubicBezTo>
                  <a:pt x="87" y="355"/>
                  <a:pt x="47" y="513"/>
                  <a:pt x="24" y="633"/>
                </a:cubicBezTo>
                <a:cubicBezTo>
                  <a:pt x="0" y="752"/>
                  <a:pt x="9" y="894"/>
                  <a:pt x="5" y="963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0760" y="4965840"/>
            <a:ext cx="1600200" cy="571320"/>
          </a:xfrm>
          <a:custGeom>
            <a:avLst/>
            <a:gdLst/>
            <a:ahLst/>
            <a:rect l="l" t="t" r="r" b="b"/>
            <a:pathLst>
              <a:path w="1100" h="402">
                <a:moveTo>
                  <a:pt x="0" y="400"/>
                </a:moveTo>
                <a:cubicBezTo>
                  <a:pt x="65" y="397"/>
                  <a:pt x="263" y="402"/>
                  <a:pt x="390" y="380"/>
                </a:cubicBezTo>
                <a:cubicBezTo>
                  <a:pt x="517" y="358"/>
                  <a:pt x="642" y="333"/>
                  <a:pt x="760" y="270"/>
                </a:cubicBezTo>
                <a:cubicBezTo>
                  <a:pt x="878" y="207"/>
                  <a:pt x="1029" y="56"/>
                  <a:pt x="1100" y="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0960" y="3517920"/>
            <a:ext cx="798480" cy="55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3505320"/>
            <a:ext cx="1181160" cy="146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60880" y="3995640"/>
            <a:ext cx="961920" cy="960480"/>
          </a:xfrm>
          <a:custGeom>
            <a:avLst/>
            <a:gdLst/>
            <a:ahLst/>
            <a:rect l="l" t="t" r="r" b="b"/>
            <a:pathLst>
              <a:path w="606" h="605">
                <a:moveTo>
                  <a:pt x="0" y="1"/>
                </a:moveTo>
                <a:cubicBezTo>
                  <a:pt x="52" y="6"/>
                  <a:pt x="227" y="0"/>
                  <a:pt x="310" y="23"/>
                </a:cubicBezTo>
                <a:cubicBezTo>
                  <a:pt x="393" y="46"/>
                  <a:pt x="452" y="73"/>
                  <a:pt x="495" y="141"/>
                </a:cubicBezTo>
                <a:cubicBezTo>
                  <a:pt x="538" y="209"/>
                  <a:pt x="550" y="352"/>
                  <a:pt x="568" y="429"/>
                </a:cubicBezTo>
                <a:cubicBezTo>
                  <a:pt x="586" y="506"/>
                  <a:pt x="598" y="568"/>
                  <a:pt x="606" y="605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0760" y="3984480"/>
            <a:ext cx="1600200" cy="1552680"/>
          </a:xfrm>
          <a:custGeom>
            <a:avLst/>
            <a:gdLst/>
            <a:ahLst/>
            <a:rect l="l" t="t" r="r" b="b"/>
            <a:pathLst>
              <a:path w="1008" h="978">
                <a:moveTo>
                  <a:pt x="393" y="0"/>
                </a:moveTo>
                <a:lnTo>
                  <a:pt x="0" y="978"/>
                </a:lnTo>
                <a:lnTo>
                  <a:pt x="1008" y="619"/>
                </a:lnTo>
                <a:lnTo>
                  <a:pt x="3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142800" y="4965840"/>
            <a:ext cx="1042920" cy="95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86080" y="4965840"/>
            <a:ext cx="196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91120" y="4902120"/>
            <a:ext cx="1396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41680" y="4254480"/>
            <a:ext cx="419400" cy="390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82840" y="375912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3568680"/>
            <a:ext cx="10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etall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230440" y="5029200"/>
            <a:ext cx="9032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07160" y="565956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D 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22360" y="3492360"/>
            <a:ext cx="990360" cy="914400"/>
          </a:xfrm>
          <a:prstGeom prst="line">
            <a:avLst/>
          </a:prstGeom>
          <a:ln w="57240">
            <a:solidFill>
              <a:srgbClr val="39eb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84640" y="3489480"/>
            <a:ext cx="1941480" cy="1440"/>
          </a:xfrm>
          <a:custGeom>
            <a:avLst/>
            <a:gdLst/>
            <a:ahLst/>
            <a:rect l="l" t="t" r="r" b="b"/>
            <a:pathLst>
              <a:path w="1223" h="1">
                <a:moveTo>
                  <a:pt x="0" y="0"/>
                </a:moveTo>
                <a:lnTo>
                  <a:pt x="1223" y="0"/>
                </a:ln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186080" y="3505320"/>
            <a:ext cx="0" cy="14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51120" y="41781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auge 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05520" y="1600200"/>
          <a:ext cx="15364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15364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flipH="1">
            <a:off x="464796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438280"/>
          <a:ext cx="1359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438280"/>
                    <a:ext cx="1359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0481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assical Gauge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43080"/>
          <a:ext cx="448776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43080"/>
                    <a:ext cx="44877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228600" y="2590920"/>
            <a:ext cx="3581280" cy="1830960"/>
            <a:chOff x="228600" y="2590920"/>
            <a:chExt cx="3581280" cy="1830960"/>
          </a:xfrm>
        </p:grpSpPr>
        <p:sp>
          <p:nvSpPr>
            <p:cNvPr id="108" name=""/>
            <p:cNvSpPr/>
            <p:nvPr/>
          </p:nvSpPr>
          <p:spPr>
            <a:xfrm>
              <a:off x="228600" y="3048120"/>
              <a:ext cx="3581280" cy="1066680"/>
            </a:xfrm>
            <a:prstGeom prst="parallelogram">
              <a:avLst>
                <a:gd name="adj" fmla="val 8393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3429000"/>
              <a:ext cx="152280" cy="7632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19520" y="3353040"/>
              <a:ext cx="152280" cy="7596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3733920"/>
              <a:ext cx="152280" cy="7632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3505320"/>
              <a:ext cx="152280" cy="76320"/>
            </a:xfrm>
            <a:prstGeom prst="ellipse">
              <a:avLst/>
            </a:prstGeom>
            <a:solidFill>
              <a:srgbClr val="543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3810240"/>
              <a:ext cx="152640" cy="75960"/>
            </a:xfrm>
            <a:prstGeom prst="ellipse">
              <a:avLst/>
            </a:prstGeom>
            <a:solidFill>
              <a:srgbClr val="543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880" y="3505320"/>
              <a:ext cx="152640" cy="76320"/>
            </a:xfrm>
            <a:prstGeom prst="ellipse">
              <a:avLst/>
            </a:prstGeom>
            <a:solidFill>
              <a:srgbClr val="543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0400" y="3200400"/>
              <a:ext cx="152280" cy="7632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3353040"/>
              <a:ext cx="152280" cy="75960"/>
            </a:xfrm>
            <a:prstGeom prst="ellipse">
              <a:avLst/>
            </a:prstGeom>
            <a:solidFill>
              <a:srgbClr val="543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352680" y="25909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25909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1828800" y="2590920"/>
            <a:ext cx="304920" cy="24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2590920"/>
                      <a:ext cx="304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 flipV="1">
              <a:off x="685800" y="25909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720" y="3657600"/>
              <a:ext cx="152280" cy="7632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5280" y="3200400"/>
              <a:ext cx="152640" cy="7632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3962520"/>
              <a:ext cx="152280" cy="76320"/>
            </a:xfrm>
            <a:prstGeom prst="ellipse">
              <a:avLst/>
            </a:prstGeom>
            <a:solidFill>
              <a:srgbClr val="543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3657600"/>
              <a:ext cx="152640" cy="7632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3200400"/>
              <a:ext cx="152280" cy="76320"/>
            </a:xfrm>
            <a:prstGeom prst="ellipse">
              <a:avLst/>
            </a:prstGeom>
            <a:solidFill>
              <a:srgbClr val="543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41148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und state vort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1523880" y="4952880"/>
          <a:ext cx="736560" cy="2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952880"/>
                    <a:ext cx="73656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062240" y="2209680"/>
            <a:ext cx="5081760" cy="3746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19440" y="2438280"/>
            <a:ext cx="106704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262640" y="4648320"/>
            <a:ext cx="45720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81560" y="4952880"/>
            <a:ext cx="2819520" cy="337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Kosterlitz-Thouless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19440" y="2438280"/>
            <a:ext cx="43434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1944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auge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38720" y="2139840"/>
          <a:ext cx="2298960" cy="36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38720" y="2139840"/>
                    <a:ext cx="2298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419720" y="59436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. Natterman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t 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J. Physique 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565 (95); Cha &amp; Fertig, PR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4867 (95); LHT, PR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3350 (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0292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inimal energy vortex states - nume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11520" y="990720"/>
            <a:ext cx="5532480" cy="586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3733920"/>
            <a:ext cx="27432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# vortices/sit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ery good candidates for vortex ground state can be constructed by filling in sites with lowest vortex pair energy one at a time (</a:t>
            </a:r>
            <a:r>
              <a:rPr b="0" lang="en-US" sz="1600" spc="-1" strike="noStrike">
                <a:solidFill>
                  <a:srgbClr val="fc0000"/>
                </a:solidFill>
                <a:latin typeface="Arial"/>
                <a:ea typeface="宋体"/>
              </a:rPr>
              <a:t>greedy algorith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ak correlation exists for vortex pairs near the ``</a:t>
            </a:r>
            <a:r>
              <a:rPr b="0" lang="en-US" sz="1600" spc="-1" strike="noStrike">
                <a:solidFill>
                  <a:srgbClr val="fc0000"/>
                </a:solidFill>
                <a:latin typeface="Arial"/>
                <a:ea typeface="宋体"/>
              </a:rPr>
              <a:t>Fermi en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1066680"/>
            <a:ext cx="3352680" cy="2501280"/>
            <a:chOff x="228600" y="1066680"/>
            <a:chExt cx="3352680" cy="2501280"/>
          </a:xfrm>
        </p:grpSpPr>
        <p:graphicFrame>
          <p:nvGraphicFramePr>
            <p:cNvPr id="143" name=""/>
            <p:cNvGraphicFramePr/>
            <p:nvPr/>
          </p:nvGraphicFramePr>
          <p:xfrm>
            <a:off x="380880" y="1828800"/>
            <a:ext cx="2590920" cy="119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1828800"/>
                      <a:ext cx="2590920" cy="11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2286000" y="304776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dom dipole fie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121896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ulomb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600" y="10666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4be5"/>
                  </a:solidFill>
                  <a:latin typeface="Arial"/>
                  <a:ea typeface="宋体"/>
                </a:rPr>
                <a:t>Vortex Hamilton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285640" y="1600200"/>
              <a:ext cx="304920" cy="228600"/>
            </a:xfrm>
            <a:prstGeom prst="line">
              <a:avLst/>
            </a:prstGeom>
            <a:ln w="93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438280" y="2818800"/>
              <a:ext cx="152640" cy="228600"/>
            </a:xfrm>
            <a:prstGeom prst="line">
              <a:avLst/>
            </a:prstGeom>
            <a:ln w="93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791320" y="3505320"/>
            <a:ext cx="533160" cy="337320"/>
          </a:xfrm>
          <a:prstGeom prst="rect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3352680"/>
            <a:ext cx="1676520" cy="520200"/>
          </a:xfrm>
          <a:prstGeom prst="rect">
            <a:avLst/>
          </a:prstGeom>
          <a:solidFill>
            <a:srgbClr val="39e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Vortex pairs near the Fermi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5334120"/>
            <a:ext cx="1295640" cy="1066680"/>
          </a:xfrm>
          <a:prstGeom prst="rect">
            <a:avLst/>
          </a:prstGeom>
          <a:noFill/>
          <a:ln w="9360">
            <a:solidFill>
              <a:srgbClr val="f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791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reening vortex 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ielectric screening at 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362320"/>
            <a:ext cx="3581280" cy="1066680"/>
          </a:xfrm>
          <a:prstGeom prst="parallelogram">
            <a:avLst>
              <a:gd name="adj" fmla="val 83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2666880"/>
            <a:ext cx="15264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048120"/>
            <a:ext cx="152280" cy="759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3124080"/>
            <a:ext cx="15228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2819520"/>
            <a:ext cx="152280" cy="7596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2514600"/>
            <a:ext cx="152280" cy="7632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666880"/>
            <a:ext cx="152640" cy="76320"/>
          </a:xfrm>
          <a:prstGeom prst="ellipse">
            <a:avLst/>
          </a:prstGeom>
          <a:solidFill>
            <a:srgbClr val="54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6800" y="167652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serted 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362320" y="2743200"/>
            <a:ext cx="838080" cy="228600"/>
          </a:xfrm>
          <a:prstGeom prst="line">
            <a:avLst/>
          </a:prstGeom>
          <a:ln w="57240">
            <a:solidFill>
              <a:srgbClr val="39eb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25146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5909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513400">
            <a:off x="1909440" y="2778120"/>
            <a:ext cx="307800" cy="428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886200"/>
            <a:ext cx="3657600" cy="20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airs in the neighborhood of the Fermi surface participate in 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mber of screening pairs proportional to the DO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ribution from different scales can be treated in a RG 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1295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electric susceptibility due to pairs in a given size range 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+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86400" y="1981080"/>
          <a:ext cx="267984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981080"/>
                    <a:ext cx="2679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029200" y="24382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duction in coupling str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715000" y="2895480"/>
          <a:ext cx="157464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895480"/>
                    <a:ext cx="15746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5029200" y="33526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mensional 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867280" y="3733920"/>
          <a:ext cx="96516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3733920"/>
                    <a:ext cx="9651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533520" y="99072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-H Tang and P-Q Tong, PR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207204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c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638680" y="4343400"/>
          <a:ext cx="215928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343400"/>
                    <a:ext cx="21592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029200" y="5029200"/>
            <a:ext cx="3505320" cy="916920"/>
          </a:xfrm>
          <a:prstGeom prst="rect">
            <a:avLst/>
          </a:prstGeom>
          <a:solidFill>
            <a:srgbClr val="f6a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ower-law decay of stiffness with system size for 2D gauge-glass in the T=0 critic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2819520"/>
            <a:ext cx="1676520" cy="457200"/>
          </a:xfrm>
          <a:prstGeom prst="rect">
            <a:avLst/>
          </a:prstGeom>
          <a:noFill/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3526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7339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Finite T: Monte Carlo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4038480" cy="2863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495680" cy="306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72200" y="685800"/>
            <a:ext cx="457200" cy="380880"/>
          </a:xfrm>
          <a:prstGeom prst="rect">
            <a:avLst/>
          </a:prstGeom>
          <a:noFill/>
          <a:ln w="28440">
            <a:solidFill>
              <a:srgbClr val="f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37160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near term in specific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verging spin-glass susceptibility as 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ize-dependent crossover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0" y="2819520"/>
          <a:ext cx="10796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819520"/>
                    <a:ext cx="1079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666880" y="3200400"/>
            <a:ext cx="16002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523880" y="32004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160020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7:38:00Z</dcterms:created>
  <dc:creator>Dr.  Tang</dc:creator>
  <dc:description/>
  <dc:language>en-US</dc:language>
  <cp:lastModifiedBy>Prof. Lei-han Tang</cp:lastModifiedBy>
  <dcterms:modified xsi:type="dcterms:W3CDTF">2007-12-24T03:38:20Z</dcterms:modified>
  <cp:revision>199</cp:revision>
  <dc:subject/>
  <dc:title>Zero-temperature criticality of 2D Gauge Glass</dc:title>
</cp:coreProperties>
</file>