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5.wmf" ContentType="image/x-wmf"/>
  <Override PartName="/ppt/media/image24.wmf" ContentType="image/x-wmf"/>
  <Override PartName="/ppt/media/image1.wmf" ContentType="image/x-wmf"/>
  <Override PartName="/ppt/media/image28.png" ContentType="image/png"/>
  <Override PartName="/ppt/media/image25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38.wmf" ContentType="image/x-wmf"/>
  <Override PartName="/ppt/media/image40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E57-0B29-4486-9163-EB95CFBC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C05-2FBC-4E83-A5B7-BB31A228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BBF-22AF-4649-BDE7-3D3349F3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243-F04E-4BBC-BDE4-65C026F9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F35-BA99-49FB-A369-F70734FA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644-17DD-4197-B623-59A7D114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848-0471-40CB-8974-0FD68461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2BC-B8AD-4C8B-A8CD-AA546D2E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0D4-F730-4127-9720-AA71AE73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B06-F3DD-44AB-8CFA-C426E5E8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6C1-C50C-4E68-BD1D-E1FC6CDF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CC9-A484-4CE6-A209-429A7DBB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0FCE-B43A-4FBC-99D3-98D69DC4C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4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5600"/>
            <a:ext cx="7772400" cy="143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Polarization Induced by Inhomogeneit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ian 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ity of Texas  at Au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5562720"/>
            <a:ext cx="7467480" cy="313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Xiv: 0711.1855, Di Xiao, Junren Shi, Dennis Clougherty, and Q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Order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absence of inhom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g-Smith and Vanderbilt (under periodic gaug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certain quantum: Berry phase is defined up to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375000" cy="755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799000" cy="981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581280" y="5638680"/>
            <a:ext cx="1754280" cy="64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638680" y="4038480"/>
            <a:ext cx="1526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1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Order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der in the gradient of order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-point formul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397920" cy="782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47920" y="4419720"/>
            <a:ext cx="6291000" cy="693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67480" y="4343400"/>
            <a:ext cx="3812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49120" y="6248520"/>
            <a:ext cx="404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rn-Simons field in 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553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3505320"/>
            <a:ext cx="685800" cy="685800"/>
          </a:xfrm>
          <a:custGeom>
            <a:avLst/>
            <a:gdLst/>
            <a:ahLst/>
            <a:rect l="l" t="t" r="r" b="b"/>
            <a:pathLst>
              <a:path w="512" h="344">
                <a:moveTo>
                  <a:pt x="80" y="344"/>
                </a:moveTo>
                <a:cubicBezTo>
                  <a:pt x="40" y="228"/>
                  <a:pt x="0" y="112"/>
                  <a:pt x="32" y="56"/>
                </a:cubicBezTo>
                <a:cubicBezTo>
                  <a:pt x="64" y="0"/>
                  <a:pt x="208" y="16"/>
                  <a:pt x="272" y="8"/>
                </a:cubicBezTo>
                <a:cubicBezTo>
                  <a:pt x="336" y="0"/>
                  <a:pt x="376" y="8"/>
                  <a:pt x="416" y="8"/>
                </a:cubicBezTo>
                <a:cubicBezTo>
                  <a:pt x="456" y="8"/>
                  <a:pt x="484" y="8"/>
                  <a:pt x="512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94160" y="39625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03640" y="320040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312408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590920"/>
            <a:ext cx="75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638680" y="57913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cipe for pola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local approximation, calculate Bloch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ract Berry connection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 to find the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45280" y="202248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u&gt;= |u(m,k)&gt;,  m = order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4311720" cy="49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00200" y="5105520"/>
            <a:ext cx="6291360" cy="693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0120" y="5105520"/>
            <a:ext cx="2286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inim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dimension of the system must be 2 or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order parameter must have 2 or mo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dimension of the Hamiltonian matrix must be 3 or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4240" y="1447920"/>
            <a:ext cx="69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order to have a non-zero polar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irst oder in the gradient of order parame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upling Form of a Minim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951000" cy="495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Landau-Ginzbur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ral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200400"/>
            <a:ext cx="2895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. Mostovoy, PRL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6095880"/>
            <a:ext cx="5867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. Katsura, N. Nagaosa &amp; A.V. Balatsky, PRL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76520" y="4419720"/>
            <a:ext cx="4130640" cy="123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98560" y="4648320"/>
            <a:ext cx="1706400" cy="78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. Tok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ce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705720" y="3733920"/>
            <a:ext cx="1904760" cy="1143000"/>
          </a:xfrm>
          <a:prstGeom prst="wedgeRoundRectCallout">
            <a:avLst>
              <a:gd name="adj1" fmla="val -111333"/>
              <a:gd name="adj2" fmla="val 31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2D Dim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2828880" cy="2917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96560" y="1523880"/>
            <a:ext cx="3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74280" y="4414680"/>
            <a:ext cx="102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4960" y="4419720"/>
            <a:ext cx="109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2743200"/>
            <a:ext cx="110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981080"/>
            <a:ext cx="110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20240" y="23623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676520"/>
            <a:ext cx="1981080" cy="1371600"/>
          </a:xfrm>
          <a:prstGeom prst="wedgeRoundRectCallout">
            <a:avLst>
              <a:gd name="adj1" fmla="val 72194"/>
              <a:gd name="adj2" fmla="val -11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gg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lat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3733920"/>
            <a:ext cx="1904760" cy="1143000"/>
          </a:xfrm>
          <a:prstGeom prst="wedgeRoundRectCallout">
            <a:avLst>
              <a:gd name="adj1" fmla="val -46750"/>
              <a:gd name="adj2" fmla="val -9166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ping ampl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581280"/>
            <a:ext cx="243828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-reversal invari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5486400"/>
            <a:ext cx="7897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. Seradjeh, C. Weeks, and M. Franz, arXiv:0706.1559; C. Chamon, C.-Y. Hou, R. Jackiw, C. Mudry, S.-Y. Pi, and A. P. Schnyder, arXiv:0707.02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Hamilt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1143000" cy="333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4778640" cy="48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74920" y="1600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milto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95280" y="2438280"/>
            <a:ext cx="4457880" cy="374400"/>
            <a:chOff x="1295280" y="2438280"/>
            <a:chExt cx="4457880" cy="37440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295280" y="2525400"/>
              <a:ext cx="1359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2832120" y="2508120"/>
              <a:ext cx="135864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4394160" y="2438280"/>
              <a:ext cx="1359000" cy="34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3657600" y="5257800"/>
            <a:ext cx="419112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ry curvatures has SU(2) symmetry;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n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410080"/>
            <a:ext cx="1219320" cy="685800"/>
          </a:xfrm>
          <a:custGeom>
            <a:avLst/>
            <a:gdLst/>
            <a:ahLst/>
            <a:rect l="l" t="t" r="r" b="b"/>
            <a:pathLst>
              <a:path w="768" h="432">
                <a:moveTo>
                  <a:pt x="0" y="432"/>
                </a:moveTo>
                <a:cubicBezTo>
                  <a:pt x="128" y="216"/>
                  <a:pt x="256" y="0"/>
                  <a:pt x="384" y="0"/>
                </a:cubicBezTo>
                <a:cubicBezTo>
                  <a:pt x="512" y="0"/>
                  <a:pt x="640" y="216"/>
                  <a:pt x="768" y="43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1066320" y="4266720"/>
            <a:ext cx="1219320" cy="685800"/>
          </a:xfrm>
          <a:custGeom>
            <a:avLst/>
            <a:gdLst/>
            <a:ahLst/>
            <a:rect l="l" t="t" r="r" b="b"/>
            <a:pathLst>
              <a:path w="768" h="432">
                <a:moveTo>
                  <a:pt x="0" y="432"/>
                </a:moveTo>
                <a:cubicBezTo>
                  <a:pt x="128" y="216"/>
                  <a:pt x="256" y="0"/>
                  <a:pt x="384" y="0"/>
                </a:cubicBezTo>
                <a:cubicBezTo>
                  <a:pt x="512" y="0"/>
                  <a:pt x="640" y="216"/>
                  <a:pt x="768" y="43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18148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3809880"/>
            <a:ext cx="0" cy="243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419720"/>
            <a:ext cx="449568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ubly generate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4104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12200" y="52578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97760" y="2362320"/>
            <a:ext cx="23004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ticomm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erroelectric Vo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3338280" cy="404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1646280" cy="314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33720" y="1752480"/>
            <a:ext cx="533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der parameter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5030640" cy="828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343400" y="5029200"/>
            <a:ext cx="2871720" cy="666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15240" y="4724280"/>
            <a:ext cx="2498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um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ractional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092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5080" y="5715000"/>
            <a:ext cx="43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ashed l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inuum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olid l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band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09480" y="1752480"/>
          <a:ext cx="8001000" cy="1447560"/>
        </p:xfrm>
        <a:graphic>
          <a:graphicData uri="http://schemas.openxmlformats.org/drawingml/2006/table">
            <a:tbl>
              <a:tblPr/>
              <a:tblGrid>
                <a:gridCol w="685800"/>
                <a:gridCol w="2438280"/>
                <a:gridCol w="2514600"/>
                <a:gridCol w="2362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le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wo-point 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certain quan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rst Chern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rn-Simons 1-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hern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ond Chern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rn-Simons 3-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hern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457200" y="38098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al conditions for nonzero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onal charge in a ferroelectric v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943600"/>
            <a:ext cx="7467480" cy="313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Xiv: 0711.1855, Di Xiao, Junren Shi, Dennis Clougherty, and Q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0962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arization as a Berry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arization  as a Chern-Simons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rroelectric v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mpt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miclassical Quan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200400" cy="1085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119040" y="2438280"/>
            <a:ext cx="20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2286000" cy="69552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457200" y="1828800"/>
            <a:ext cx="2350800" cy="1905120"/>
            <a:chOff x="457200" y="1828800"/>
            <a:chExt cx="2350800" cy="1905120"/>
          </a:xfrm>
        </p:grpSpPr>
        <p:sp>
          <p:nvSpPr>
            <p:cNvPr id="178" name=""/>
            <p:cNvSpPr/>
            <p:nvPr/>
          </p:nvSpPr>
          <p:spPr>
            <a:xfrm>
              <a:off x="711360" y="18288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" y="3597840"/>
              <a:ext cx="22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92600" y="2236680"/>
              <a:ext cx="1334520" cy="1224360"/>
            </a:xfrm>
            <a:prstGeom prst="ellips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83400" y="2440800"/>
              <a:ext cx="952920" cy="81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5800" y="1828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91560" y="2917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37760" y="1896840"/>
              <a:ext cx="50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045520" y="2169000"/>
              <a:ext cx="190440" cy="27180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 rot="5400000">
            <a:off x="4419360" y="4190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352680"/>
            <a:ext cx="2057400" cy="496440"/>
          </a:xfrm>
          <a:prstGeom prst="wedgeRoundRectCallout">
            <a:avLst>
              <a:gd name="adj1" fmla="val 29773"/>
              <a:gd name="adj2" fmla="val -137606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ry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86200" y="5029200"/>
            <a:ext cx="2103480" cy="9651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685800" y="4876920"/>
            <a:ext cx="2514600" cy="1286280"/>
          </a:xfrm>
          <a:prstGeom prst="wedgeRoundRectCallout">
            <a:avLst>
              <a:gd name="adj1" fmla="val 69180"/>
              <a:gd name="adj2" fmla="val -16287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ase-space volume of a quantum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27840" y="1523880"/>
            <a:ext cx="32774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 1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781680" y="4876920"/>
            <a:ext cx="1889280" cy="89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553080" y="5867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hand-waving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red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want a slide of Streda formula derived using the density of states?  A very cute example but probably a little bit off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erry Phase Effect on Electron Dyn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escribes the dynamics of individual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lso gives the correct measure of the phase space (Density of st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 Do you think this page is necess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04560" y="160020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mplete semiclassical theory has two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olution of Phase Spac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592360" cy="205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1611360" cy="468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800600" y="2209680"/>
            <a:ext cx="3735360" cy="747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189240" y="15238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ase space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54040" y="2286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724280" y="3352680"/>
            <a:ext cx="1935360" cy="7747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70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 is no longer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 only depends on its position in the phase 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ates from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canonic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ure of the equation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nsity of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5867280"/>
            <a:ext cx="43434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Xiao, Junren Shi &amp; QN, PRL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029200" y="4343400"/>
            <a:ext cx="2475000" cy="774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3303720" cy="809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078560" y="44956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iclassical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47920" y="2895480"/>
            <a:ext cx="1450800" cy="912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29000" y="32004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281240" y="1676520"/>
            <a:ext cx="6338880" cy="1018440"/>
            <a:chOff x="1281240" y="1676520"/>
            <a:chExt cx="6338880" cy="1018440"/>
          </a:xfrm>
        </p:grpSpPr>
        <p:sp>
          <p:nvSpPr>
            <p:cNvPr id="214" name=""/>
            <p:cNvSpPr/>
            <p:nvPr/>
          </p:nvSpPr>
          <p:spPr>
            <a:xfrm>
              <a:off x="1281240" y="1981080"/>
              <a:ext cx="296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nsity of states 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55280" y="1676520"/>
              <a:ext cx="30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# of quantum st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32240" y="2235240"/>
              <a:ext cx="30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ase space 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67080" y="2209680"/>
              <a:ext cx="335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lectric pola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c materials property of dielec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rack of bound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arameter of ferro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 of piezoelectric effec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 defined as density of electric dipoles,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tic when such dipoles cannot be identified, e.g. covalant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rystal, dipole moment of a unit cell depend on the choice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larization: Modern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1640" y="3123720"/>
            <a:ext cx="4419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 to a divergence-free vector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189864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1503360" cy="45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2187720" cy="81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38480" y="228600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14800"/>
            <a:ext cx="8229600" cy="22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 is the transient current density during a process (characterized by change in the control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ally, only the change in polarization is ever measured.    So, polarization is defined only relative to a reference state (the initial st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3440" y="1341360"/>
            <a:ext cx="74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keep track of movement of charges in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larization as a Berry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uless (1983): found adiabatic current in a crystal in terms of a Berry curvature in (k,t)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g-Smith and Vanderbilt (199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9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9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93040" indent="-132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(k): Bloch function ampli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9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9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d to great success in first principles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167000" cy="684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1068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larization in Inhomogeneous Sys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A multiferroic problem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 polarization induced by inhomogeneous magnetic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Soliton charge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can be obtained from polarization due to an inhomogeneous parametric field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Theoretical difficulty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lational symmetry is broken, no well-defined Bloch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Solu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iclassical form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arization as a Chern-Simons fiel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590920"/>
            <a:ext cx="30481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. Lawes et al, PRL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426200" cy="1687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164628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ur semiclassical form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54612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2362320"/>
            <a:ext cx="6095880" cy="965160"/>
          </a:xfrm>
          <a:custGeom>
            <a:avLst/>
            <a:gdLst/>
            <a:ahLst/>
            <a:rect l="l" t="t" r="r" b="b"/>
            <a:pathLst>
              <a:path w="3840" h="608">
                <a:moveTo>
                  <a:pt x="0" y="608"/>
                </a:moveTo>
                <a:cubicBezTo>
                  <a:pt x="264" y="476"/>
                  <a:pt x="528" y="344"/>
                  <a:pt x="816" y="320"/>
                </a:cubicBezTo>
                <a:cubicBezTo>
                  <a:pt x="1104" y="296"/>
                  <a:pt x="1472" y="472"/>
                  <a:pt x="1728" y="464"/>
                </a:cubicBezTo>
                <a:cubicBezTo>
                  <a:pt x="1984" y="456"/>
                  <a:pt x="2152" y="344"/>
                  <a:pt x="2352" y="272"/>
                </a:cubicBezTo>
                <a:cubicBezTo>
                  <a:pt x="2552" y="200"/>
                  <a:pt x="2680" y="0"/>
                  <a:pt x="2928" y="32"/>
                </a:cubicBezTo>
                <a:cubicBezTo>
                  <a:pt x="3176" y="64"/>
                  <a:pt x="3688" y="392"/>
                  <a:pt x="3840" y="464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143000"/>
            <a:ext cx="2438280" cy="914400"/>
          </a:xfrm>
          <a:prstGeom prst="wedgeRoundRectCallout">
            <a:avLst>
              <a:gd name="adj1" fmla="val -65625"/>
              <a:gd name="adj2" fmla="val 7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n as a wave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14800" y="4038480"/>
            <a:ext cx="1430280" cy="36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5240" y="358128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 the wavepacket in the Bloch function b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the local Hamilto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523880"/>
            <a:ext cx="3352680" cy="990720"/>
          </a:xfrm>
          <a:prstGeom prst="wedgeRoundRectCallout">
            <a:avLst>
              <a:gd name="adj1" fmla="val -10935"/>
              <a:gd name="adj2" fmla="val 92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wly varying order parameter m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720" y="4572000"/>
            <a:ext cx="839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semiclassical dynamics of the wavepacket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presence of inhom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200" y="5638680"/>
            <a:ext cx="72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ulate the adiabatic current due to  chang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arameter and find the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miclassical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5867280"/>
            <a:ext cx="7010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.-C. Chang &amp; QN, PRB (1996); G. Sundaram &amp; QN, PRB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98200" y="3200400"/>
            <a:ext cx="2628360" cy="73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ry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vector 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275000" cy="90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6280" y="1981080"/>
            <a:ext cx="3164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 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4311360" cy="495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10520" y="4572000"/>
            <a:ext cx="2423880" cy="73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ry 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gnetic fie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800600" y="4648320"/>
            <a:ext cx="25462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ola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483000" cy="9172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8271000" cy="1376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019920"/>
            <a:ext cx="868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ly terms proportional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rviv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larization is geometr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560" y="289548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sity of sta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3303720" cy="80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67080" y="3581280"/>
            <a:ext cx="43434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Xiao, Junren Shi &amp; QN, PRL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00" y="1371600"/>
            <a:ext cx="732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diabatic current for filled band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integ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7242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54:28Z</dcterms:created>
  <dc:creator>Di Xiao</dc:creator>
  <dc:description/>
  <dc:language>en-US</dc:language>
  <cp:lastModifiedBy>Qian Niu</cp:lastModifiedBy>
  <dcterms:modified xsi:type="dcterms:W3CDTF">2007-12-15T01:11:20Z</dcterms:modified>
  <cp:revision>33</cp:revision>
  <dc:subject/>
  <dc:title>Polarization Induced by Inhomogeneity </dc:title>
</cp:coreProperties>
</file>