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796-B1A1-44CB-8F99-A468A0DF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FEE-F05B-47F3-89FF-47D9BFD8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B8F-1C59-49F6-A273-7D8C032C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85D-365B-463A-8CAA-D7AAACBE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0793-0A99-4D1F-88D4-A93F304F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78F4-A7B1-4B7B-A299-6C1B49F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F4AC-79CE-40ED-A521-48A38658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B7BE-45A3-4801-BD11-20DAA5B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A4C8-C226-4102-8173-0F45E5E5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1903-A25B-46C7-ACD2-B1EF43FC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EC7-BF80-4800-9D53-75E8481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442-6E18-4379-B5F7-8124D48B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A60C-6230-4CFE-A2D9-8A81291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6DE3-D87D-4808-A1DC-1CB872F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5002-DA9A-458B-B3F1-CFCC649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55A-D5D5-4B93-952E-2E2ED037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D79-CA8A-4497-8996-3A5F804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7D7F-C0A7-4E19-8C39-51AD889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CC1E-A307-4BA7-86C9-9885D65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D310-D4E0-43C5-9A69-FDB256C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79AA-0269-482D-9D75-A49C887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E37B-1898-4B8C-9AC0-FF047025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4D7-AFFE-482F-8426-FB61B49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5A3C-278C-4577-9AC0-007D119E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B222-7A82-43AD-8FBB-2E29B67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D63C-A8C4-41F4-B9FD-10BFBB7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CB7F-6C3F-44B6-B5DE-A230C24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57C5-2D58-4E95-9010-9371EB0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DE83-F940-48DC-8413-7C9A345B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9FF9-34B6-4A36-99BD-1AE1C633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1C8-EDA6-4694-8368-412B166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908-FEFC-4102-8216-252FF69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2ED-E03B-49A1-88BD-3CC966F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FA4-96BE-4148-9203-AD6ADDC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F87-1F95-4514-9EB9-D3F1B6E1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DDC-1769-4ACA-8EF4-4584988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62AE-757C-4A75-8229-DFD1E1AEA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D362-7AEC-431F-AA5C-2C1065A176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C45-EA0F-4B1F-879E-6B6B072085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on-local order parameters in classical systems</a:t>
            </a:r>
            <a:r>
              <a:rPr b="0" i="1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2520" y="33526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Tai Kai Ng (HKU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Yi Zhou (UST + HK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Lei Han Tang (HKB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522440" y="51814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KU (Dec.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Lim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7524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fferent configurations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enerally not related to each other by local spin fl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429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505320" y="2666880"/>
            <a:ext cx="12952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5146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5146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86200" y="28951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32767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2767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572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365760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4100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variables are not loc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666880"/>
            <a:ext cx="12956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2743200"/>
            <a:ext cx="144792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886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4267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4724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2895480"/>
            <a:ext cx="137160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62320" y="243828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809880" y="3200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362320"/>
            <a:ext cx="18288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048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2895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7080" y="41148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809880" y="41148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Lim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82880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lid-on-Solid model representation: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and Hilhorst (198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(there exists other representations: tilting and string repres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2361960" y="373392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80988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362320" y="3505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5812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95480" y="44197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38680" y="44197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6680" y="2666880"/>
            <a:ext cx="60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gn heights h to each site according to the follow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6740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124080" y="4114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514240" y="40381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72392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5744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4960" y="34653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0560" y="47610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53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48680" y="47610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8720" y="33526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4156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095880" y="3733920"/>
                <a:ext cx="2590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Lim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lid-on-Solid model representation: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and Hilhorst (198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(there exists other representations: tilting and string repres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2360" y="26668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3733920"/>
                <a:ext cx="243864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π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L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π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 flipV="1">
            <a:off x="1447920" y="3657240"/>
            <a:ext cx="13716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7400" y="3733560"/>
            <a:ext cx="13716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65760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4952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657600"/>
            <a:ext cx="13716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505320"/>
            <a:ext cx="1219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666880" y="3733920"/>
            <a:ext cx="14479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9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90920" y="480024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86000" y="42667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267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657600" y="42667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90920" y="38095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57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419112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390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9000" y="48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71960" y="4227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76880" y="36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4419720"/>
            <a:ext cx="685800" cy="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657600" y="3962520"/>
            <a:ext cx="304920" cy="45720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3962520"/>
            <a:ext cx="457200" cy="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4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4848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ntinuum lim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3880" y="5121360"/>
                <a:ext cx="6553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990720" y="3429000"/>
            <a:ext cx="7543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~ Low temperature phase of SO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J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dditional terms in the Gaussian model that produce different phases within the reduced phase spa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8288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model is in the same universality class as the Discrete Gaussia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514600" y="2590920"/>
                <a:ext cx="3581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(Topological excitation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8288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an have 3 parallel spins on a triangl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vortex in SOS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2360" y="26668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4156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447920" y="3048120"/>
            <a:ext cx="17524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057400" y="2666520"/>
            <a:ext cx="213372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365760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371600" y="4876560"/>
            <a:ext cx="3809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6720"/>
            <a:ext cx="1600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4419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3200400"/>
            <a:ext cx="16765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66880" y="3276720"/>
            <a:ext cx="175284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3962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76720" y="47239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286000" y="42667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42670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590920" y="38095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38098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5257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19112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800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768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76880" y="36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43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38098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5410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388620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505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2971800"/>
            <a:ext cx="16765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42670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38095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962520" y="48002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267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95480" y="5334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5334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352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81280" y="33523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286000" y="52574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4800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8180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8344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81280" y="441972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52578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724280" y="47239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29360" y="5218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10240" y="4684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29360" y="4227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28195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648320" y="38095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69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76720" y="2742840"/>
            <a:ext cx="1218960" cy="1600200"/>
          </a:xfrm>
          <a:prstGeom prst="line">
            <a:avLst/>
          </a:prstGeom>
          <a:ln w="936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67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8098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740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990720" y="29718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3352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828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8180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577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7600" y="3236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(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3352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3040" y="3236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15560" y="28558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ine of discontinuity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|∆h|=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gle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562720" y="3886200"/>
                <a:ext cx="3124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od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(Topological excitation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18288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an have 3 parallel spins on a triangl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vortex in SOS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02360" y="26668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43000" y="2819160"/>
            <a:ext cx="236232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752480" y="2666880"/>
            <a:ext cx="25146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3657600"/>
            <a:ext cx="198108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38098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5334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666520" y="3276720"/>
            <a:ext cx="25146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505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2971800"/>
            <a:ext cx="16765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581280" y="3962520"/>
            <a:ext cx="1828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8195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990720" y="29718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65600" y="3048120"/>
            <a:ext cx="32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ngle spin flip (∆S=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ation from ground-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0 or 2 vo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p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Vortex ~ S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fractionalized sp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[Checking now!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09680" y="2971800"/>
            <a:ext cx="25146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3962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4197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4876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3048120"/>
            <a:ext cx="198108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3276720"/>
            <a:ext cx="220968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7913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2767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42670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426708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276720" y="46483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3434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47242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581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7242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909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transitions (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,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are the effective models describing phase transitions in the reduced phase spa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057400" y="2666880"/>
                <a:ext cx="5410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r>
                          <m:t xml:space="preserve">Δ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h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Δh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600200" y="38098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numerical simulation suggests that there is a first order phas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is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phase to a 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063880" cy="2666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V="1">
            <a:off x="3581280" y="4267080"/>
            <a:ext cx="2895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81280" y="4191120"/>
            <a:ext cx="2133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57600" y="5028840"/>
            <a:ext cx="297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transitions (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,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Qu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are the effective models describing phase transitions in the reduced phase spa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057400" y="2666880"/>
                <a:ext cx="5410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r>
                          <m:t xml:space="preserve">Δ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h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Δh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00200" y="38098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in the SOS model language,  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lid” phas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rdered” steps on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063880" cy="26668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 flipV="1">
            <a:off x="7391520" y="38858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75480" y="401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h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20840" y="47052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3809880"/>
            <a:ext cx="6094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transitions (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,J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859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he phase transition can be described by minimizing the free energy with respect to </a:t>
            </a:r>
            <a:r>
              <a:rPr b="0" lang="en-US" sz="2000" spc="-1" strike="noStrike">
                <a:solidFill>
                  <a:srgbClr val="0000ff"/>
                </a:solidFill>
                <a:latin typeface="Sylfaen"/>
              </a:rPr>
              <a:t>∆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206800" y="2666880"/>
                <a:ext cx="51098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r>
                          <m:t xml:space="preserve">(</m:t>
                        </m:r>
                        <m:r>
                          <m:t xml:space="preserve">Δ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h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Δh</m:t>
                                </m:r>
                              </m:e>
                            </m:d>
                          </m:sub>
                          <m:sup/>
                          <m:e/>
                        </m:nary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676520" y="35812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irst order phase transition to </a:t>
            </a:r>
            <a:r>
              <a:rPr b="0" lang="en-US" sz="2000" spc="-1" strike="noStrike">
                <a:solidFill>
                  <a:srgbClr val="006666"/>
                </a:solidFill>
                <a:latin typeface="Sylfaen"/>
              </a:rPr>
              <a:t>∆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h~1, h~n+1/2 state w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352680" y="4038480"/>
                <a:ext cx="121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513800" y="4775040"/>
            <a:ext cx="676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e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phase transition can be described by Landau-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ory (with non-local order parameter </a:t>
            </a:r>
            <a:r>
              <a:rPr b="0" lang="en-US" sz="2000" spc="-1" strike="noStrike">
                <a:solidFill>
                  <a:srgbClr val="ff3300"/>
                </a:solidFill>
                <a:latin typeface="Sylfaen"/>
              </a:rPr>
              <a:t>∆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transitions (H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0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otice that a KT type phase transition to a state with long-range magnetic order is found when a magnetic field is imposed on the system </a:t>
            </a:r>
            <a:r>
              <a:rPr b="0" i="1" lang="en-US" sz="2000" spc="-1" strike="noStrike">
                <a:solidFill>
                  <a:srgbClr val="006666"/>
                </a:solidFill>
                <a:latin typeface="Verdana"/>
              </a:rPr>
              <a:t>(Blöte and Nightingale (1993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057400" y="3276720"/>
                <a:ext cx="4343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523880" y="431784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this case the phase transition is described b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ine-Gordon-type Model (or discrete Gaussia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uestion (posted by XG Wen)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827360"/>
            <a:ext cx="7543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Existence of phases and phase transitions not described by Landau Theory of phase transition in Quantum Systems: </a:t>
            </a: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Topological phase transition, string-net condensation, many talks in this conference,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s there a general theory behin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y question: How about in classical systems? Are there similar situ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l theory behind what we observed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ummarize finding fir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)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(J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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) effectively impose constraint on spin configuration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non-local structure in available phase space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non-local order parame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)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Non-local structure of phase space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topological exc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3)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Additional term in Hamiltonia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phases and phase transitions with non-local order paramete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l theory behind what we observed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)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on-local order parameter generally arise in frustrated classical systems where strong interacti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reduced phase sp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)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on-local structure of phase space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topological exci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(Other examples: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6 vertex Ice type models, (classical counter-part of) models described in this conference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l theory behind what we observed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1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3)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hase transition within the reduced phase space is described by either Landau theory of non-local (physical) variable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or by sigma or KT-type 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Reason: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Imagine putting constraint on a Landau type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mean-field free ener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4648320"/>
                <a:ext cx="5257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454040" y="5410080"/>
            <a:ext cx="69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How can the constraint change the behavior 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Qualitativ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l theory behind what we observed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0117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Ex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ualitative changes if the most relevant term in the free energy is affected and becomes irrelev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e.g.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|M|</a:t>
            </a:r>
            <a:r>
              <a:rPr b="0" i="1" lang="en-US" sz="18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becomes constant </a:t>
            </a:r>
            <a:r>
              <a:rPr b="0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                         becom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irrelev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181480" y="3124080"/>
                <a:ext cx="1905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831680" y="457200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.e. sigma-typ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905120" y="4038480"/>
                <a:ext cx="5486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1359000" y="5141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other possib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581280" y="5105520"/>
                <a:ext cx="3429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761480" y="5595840"/>
            <a:ext cx="48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e-Gordan type model  ~ x-y model i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hase transition not described by standard Landau-Type theory is 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not new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in classical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- They are described by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non-local order parameter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similar to what is often found in quantum sys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-  A more general theory of phase transition is a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Landau-type or sigma (KT) type theory with non-local order parameter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Thank Yo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Yes there exists already many examples of such phase transitions in classical systems! (They are not n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Examine these examples in new languag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I shall study one example in this tal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andau theory of phase transi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752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ree energy is a local function of order parameter fiel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 (</a:t>
            </a:r>
            <a:r>
              <a:rPr b="0" i="1" lang="en-US" sz="2000" spc="-1" strike="noStrike">
                <a:solidFill>
                  <a:srgbClr val="ff0000"/>
                </a:solidFill>
                <a:latin typeface="Sylfaen"/>
              </a:rPr>
              <a:t>∆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which is itself 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ocal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unction of microscopic variables of the system. Phase transition is characterized by 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=0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transition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962520"/>
                <a:ext cx="48006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Δ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ψψ</m:t>
                            </m:r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3880" y="32767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M~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-local order param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1752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 most existing examples of Non-Landau-like quantum phase transition, a local order parameter characterizing the phase transition cannot be constructed. However, an order parameter which is a non-local function of microscopic variables can be found: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string-net, Chern-Simon transformed fiel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28800" y="4343400"/>
                <a:ext cx="48006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Δ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ψψ</m:t>
                            </m:r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523880" y="365760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M~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510552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057400" y="495288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-local order parameter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0160" y="1827360"/>
            <a:ext cx="693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irst: I want to show that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hase transitions characterized by non-local order parameter(s) appear in classical systems al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Example: Antiferromagnetic Ising model in 2D triangular lat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95280" y="4267080"/>
                <a:ext cx="4572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&gt;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/>
                            </m:nary>
                            <m:m>
                              <m:mr>
                                <m:e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±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↑</m:t>
                                  </m:r>
                                  <m:r>
                                    <m:t xml:space="preserve">↓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21528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F Ising model on triangular latti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onte Carlo Simulation resul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971800"/>
            <a:ext cx="2895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= bond joining two up s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of these string- lik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per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r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truc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18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F Ising model on triangular latti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onte Carlo Simulation resul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438640" cy="2062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23767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2971800"/>
            <a:ext cx="2895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= bond joining two up s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of these string- lik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per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r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truc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Lim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75248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J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pins on any triangle cannot be all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2286000" cy="2071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14600" y="3429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05320" y="2666880"/>
            <a:ext cx="12952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5146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25146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886200" y="28951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32767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2767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72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4600" y="5029200"/>
            <a:ext cx="60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duced phase space for spin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idual entrop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7913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ysical variabl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variable constructed with the constraint included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riginal spi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1:31:10Z</dcterms:created>
  <dc:creator>Physics</dc:creator>
  <dc:description/>
  <dc:language>en-US</dc:language>
  <cp:lastModifiedBy>Physics</cp:lastModifiedBy>
  <dcterms:modified xsi:type="dcterms:W3CDTF">2007-12-15T03:48:40Z</dcterms:modified>
  <cp:revision>161</cp:revision>
  <dc:subject/>
  <dc:title>Spin-Hole binding (confinement) in t-J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